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FFA2-571D-4959-9A05-A2E72648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EEC-D9BC-42A0-90D0-5A3B8B50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0FA5-B078-46D7-979E-B0914CD7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44ED-1264-4C29-8CB9-050BA592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5339-750C-420B-9E34-E3D3601E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A06F-04A5-45ED-9287-6D18C77A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6ACA-F464-4B39-BC79-37D16730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75C1-F34D-4DFF-A08B-ED740FB2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769B-69D9-4841-939E-A80D16A8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CB85-29EA-4684-8FCA-3B1DBA32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9D1B-EDC2-4214-AF2E-479F5ECB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23CE-6854-4AD2-8744-B4C8638E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30C8-15AA-47B8-B651-2EFC63F2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9814-4582-49FC-90A9-55361213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B1EA-3B06-41FC-B543-76EE950F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2DFF-4B9D-4D74-BBC7-5A8C7B05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5B70-3041-4257-A5EE-3BDDB31A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248-2B0C-498E-8FBA-0F4C558A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90D3-88BC-46BA-806F-14460C6B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ECB5-3D52-49E6-B4B9-11699DC9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28C2-8785-4D92-B813-CF6C8DAE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6D01-35F0-4869-A35F-29406B16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2BB0-DF9C-4F3E-ABD8-449D38AD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554F-752E-478B-B45D-C9B7B454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133B-B73A-4A88-81C5-7DBD817E316A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D8FB-DD69-45A5-B990-DFCCBB6E73D0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66"/>
                </a:solidFill>
                <a:latin typeface="Times New Roman"/>
              </a:rPr>
              <a:t>異種情報源統合利用環境における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Web</a:t>
            </a:r>
            <a:r>
              <a:rPr b="0" lang="ja-JP" sz="4000" spc="-1" strike="noStrike">
                <a:solidFill>
                  <a:srgbClr val="000066"/>
                </a:solidFill>
                <a:latin typeface="Times New Roman"/>
              </a:rPr>
              <a:t>ラッパーの設計と開発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4648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加藤数則   森嶋厚行   北川博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48840" y="3809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筑波大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26520" y="1206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66"/>
                </a:solidFill>
                <a:latin typeface="Times New Roman"/>
              </a:rPr>
              <a:t>Ｎａｖｉｇａｔｅ演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68600" y="800280"/>
            <a:ext cx="52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cc0000"/>
                </a:solidFill>
                <a:latin typeface="Times New Roman"/>
              </a:rPr>
              <a:t>パス正規表現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に基づき，条件を満た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パスを求め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152280" y="2224080"/>
            <a:ext cx="9296640" cy="1373760"/>
            <a:chOff x="152280" y="2224080"/>
            <a:chExt cx="9296640" cy="1373760"/>
          </a:xfrm>
        </p:grpSpPr>
        <p:sp>
          <p:nvSpPr>
            <p:cNvPr id="482" name=""/>
            <p:cNvSpPr/>
            <p:nvPr/>
          </p:nvSpPr>
          <p:spPr>
            <a:xfrm>
              <a:off x="152280" y="2224080"/>
              <a:ext cx="9296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Times New Roman"/>
                </a:rPr>
                <a:t>Ａ    </a:t>
              </a:r>
              <a:r>
                <a:rPr b="0" lang="ja-JP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ja-JP" sz="4800" spc="-1" strike="noStrike">
                  <a:solidFill>
                    <a:srgbClr val="000000"/>
                  </a:solidFill>
                  <a:latin typeface="Times New Roman"/>
                </a:rPr>
                <a:t>（    </a:t>
              </a:r>
              <a:r>
                <a:rPr b="0" lang="ja-JP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ja-JP" sz="4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ja-JP" sz="4800" spc="-1" strike="noStrike">
                  <a:solidFill>
                    <a:srgbClr val="000000"/>
                  </a:solidFill>
                  <a:latin typeface="Times New Roman"/>
                </a:rPr>
                <a:t>*     </a:t>
              </a:r>
              <a:r>
                <a:rPr b="0" lang="ja-JP" sz="4800" spc="-1" strike="noStrike">
                  <a:solidFill>
                    <a:srgbClr val="000000"/>
                  </a:solidFill>
                  <a:latin typeface="Times New Roman"/>
                </a:rPr>
                <a:t>Ｂ（    </a:t>
              </a:r>
              <a:r>
                <a:rPr b="0" lang="ja-JP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ja-JP" sz="4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ja-JP" sz="4800" spc="-1" strike="noStrike">
                  <a:solidFill>
                    <a:srgbClr val="000000"/>
                  </a:solidFill>
                  <a:latin typeface="Times New Roman"/>
                </a:rPr>
                <a:t>*    </a:t>
              </a:r>
              <a:r>
                <a:rPr b="0" lang="ja-JP" sz="4800" spc="-1" strike="noStrike">
                  <a:solidFill>
                    <a:srgbClr val="000000"/>
                  </a:solidFill>
                  <a:latin typeface="Times New Roman"/>
                </a:rPr>
                <a:t>Ｃ </a:t>
              </a:r>
              <a:r>
                <a:rPr b="0" lang="ja-JP" sz="3600" spc="-1" strike="noStrike">
                  <a:solidFill>
                    <a:srgbClr val="000000"/>
                  </a:solidFill>
                  <a:latin typeface="Times New Roman"/>
                </a:rPr>
                <a:t>[“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paper”]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2120" y="266688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52480" y="2666880"/>
              <a:ext cx="533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3184560" y="2514600"/>
              <a:ext cx="549000" cy="228600"/>
              <a:chOff x="3184560" y="2514600"/>
              <a:chExt cx="549000" cy="228600"/>
            </a:xfrm>
          </p:grpSpPr>
          <p:sp>
            <p:nvSpPr>
              <p:cNvPr id="486" name=""/>
              <p:cNvSpPr/>
              <p:nvPr/>
            </p:nvSpPr>
            <p:spPr>
              <a:xfrm>
                <a:off x="3184560" y="2590920"/>
                <a:ext cx="36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184560" y="2666880"/>
                <a:ext cx="36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550680" y="2514600"/>
                <a:ext cx="182880" cy="228600"/>
              </a:xfrm>
              <a:prstGeom prst="rightArrow">
                <a:avLst>
                  <a:gd name="adj1" fmla="val 60130"/>
                  <a:gd name="adj2" fmla="val 10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4648320" y="266688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19920" y="266688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456840" y="3048120"/>
            <a:ext cx="2077920" cy="1381320"/>
            <a:chOff x="456840" y="3048120"/>
            <a:chExt cx="2077920" cy="1381320"/>
          </a:xfrm>
        </p:grpSpPr>
        <p:sp>
          <p:nvSpPr>
            <p:cNvPr id="492" name=""/>
            <p:cNvSpPr/>
            <p:nvPr/>
          </p:nvSpPr>
          <p:spPr>
            <a:xfrm flipH="1" flipV="1">
              <a:off x="456840" y="3048120"/>
              <a:ext cx="228600" cy="8380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91000" y="38480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Times New Roman"/>
                </a:rPr>
                <a:t>起点のページ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4191120" y="3473280"/>
            <a:ext cx="4194360" cy="2776320"/>
            <a:chOff x="4191120" y="3473280"/>
            <a:chExt cx="4194360" cy="2776320"/>
          </a:xfrm>
        </p:grpSpPr>
        <p:sp>
          <p:nvSpPr>
            <p:cNvPr id="495" name=""/>
            <p:cNvSpPr/>
            <p:nvPr/>
          </p:nvSpPr>
          <p:spPr>
            <a:xfrm>
              <a:off x="4191120" y="388620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4191120" y="4451400"/>
              <a:ext cx="548640" cy="228600"/>
              <a:chOff x="4191120" y="4451400"/>
              <a:chExt cx="548640" cy="228600"/>
            </a:xfrm>
          </p:grpSpPr>
          <p:sp>
            <p:nvSpPr>
              <p:cNvPr id="497" name=""/>
              <p:cNvSpPr/>
              <p:nvPr/>
            </p:nvSpPr>
            <p:spPr>
              <a:xfrm>
                <a:off x="4191120" y="4527720"/>
                <a:ext cx="36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191120" y="4603680"/>
                <a:ext cx="36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56880" y="4451400"/>
                <a:ext cx="182880" cy="228600"/>
              </a:xfrm>
              <a:prstGeom prst="rightArrow">
                <a:avLst>
                  <a:gd name="adj1" fmla="val 60130"/>
                  <a:gd name="adj2" fmla="val 10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5310720" y="3473280"/>
              <a:ext cx="245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ja-JP" sz="3600" spc="-1" strike="noStrike">
                  <a:solidFill>
                    <a:srgbClr val="000000"/>
                  </a:solidFill>
                  <a:latin typeface="Times New Roman"/>
                </a:rPr>
                <a:t>ローカルリンク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236920" y="4191120"/>
              <a:ext cx="245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ja-JP" sz="3600" spc="-1" strike="noStrike">
                  <a:solidFill>
                    <a:srgbClr val="000000"/>
                  </a:solidFill>
                  <a:latin typeface="Times New Roman"/>
                </a:rPr>
                <a:t>リモートリンク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402440" y="4921200"/>
              <a:ext cx="254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Times New Roman"/>
                </a:rPr>
                <a:t>[  ]  </a:t>
              </a:r>
              <a:r>
                <a:rPr b="0" lang="ja-JP" sz="3600" spc="-1" strike="noStrike">
                  <a:solidFill>
                    <a:srgbClr val="000000"/>
                  </a:solidFill>
                  <a:latin typeface="Times New Roman"/>
                </a:rPr>
                <a:t>： 選択条件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87680" y="5607000"/>
              <a:ext cx="399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Times New Roman"/>
                </a:rPr>
                <a:t>（ ）</a:t>
              </a:r>
              <a:r>
                <a:rPr b="0" lang="ja-JP" sz="3600" spc="-1" strike="noStrike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lang="ja-JP" sz="3600" spc="-1" strike="noStrike">
                  <a:solidFill>
                    <a:srgbClr val="000000"/>
                  </a:solidFill>
                  <a:latin typeface="Times New Roman"/>
                </a:rPr>
                <a:t>： ０回以上の繰返し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 rot="20728800">
            <a:off x="4680" y="1279080"/>
            <a:ext cx="9364680" cy="5300640"/>
          </a:xfrm>
          <a:custGeom>
            <a:avLst/>
            <a:gdLst/>
            <a:ahLst/>
            <a:rect l="l" t="t" r="r" b="b"/>
            <a:pathLst>
              <a:path w="5084" h="2269">
                <a:moveTo>
                  <a:pt x="185" y="969"/>
                </a:moveTo>
                <a:cubicBezTo>
                  <a:pt x="175" y="941"/>
                  <a:pt x="171" y="912"/>
                  <a:pt x="161" y="884"/>
                </a:cubicBezTo>
                <a:cubicBezTo>
                  <a:pt x="170" y="776"/>
                  <a:pt x="160" y="754"/>
                  <a:pt x="254" y="708"/>
                </a:cubicBezTo>
                <a:cubicBezTo>
                  <a:pt x="310" y="714"/>
                  <a:pt x="360" y="726"/>
                  <a:pt x="415" y="715"/>
                </a:cubicBezTo>
                <a:cubicBezTo>
                  <a:pt x="438" y="694"/>
                  <a:pt x="443" y="670"/>
                  <a:pt x="461" y="646"/>
                </a:cubicBezTo>
                <a:cubicBezTo>
                  <a:pt x="472" y="632"/>
                  <a:pt x="490" y="623"/>
                  <a:pt x="500" y="608"/>
                </a:cubicBezTo>
                <a:cubicBezTo>
                  <a:pt x="523" y="571"/>
                  <a:pt x="559" y="537"/>
                  <a:pt x="600" y="523"/>
                </a:cubicBezTo>
                <a:cubicBezTo>
                  <a:pt x="618" y="526"/>
                  <a:pt x="637" y="525"/>
                  <a:pt x="654" y="531"/>
                </a:cubicBezTo>
                <a:cubicBezTo>
                  <a:pt x="671" y="538"/>
                  <a:pt x="683" y="555"/>
                  <a:pt x="700" y="561"/>
                </a:cubicBezTo>
                <a:cubicBezTo>
                  <a:pt x="708" y="564"/>
                  <a:pt x="715" y="566"/>
                  <a:pt x="723" y="569"/>
                </a:cubicBezTo>
                <a:cubicBezTo>
                  <a:pt x="736" y="566"/>
                  <a:pt x="749" y="566"/>
                  <a:pt x="761" y="561"/>
                </a:cubicBezTo>
                <a:cubicBezTo>
                  <a:pt x="791" y="548"/>
                  <a:pt x="806" y="518"/>
                  <a:pt x="838" y="508"/>
                </a:cubicBezTo>
                <a:cubicBezTo>
                  <a:pt x="883" y="478"/>
                  <a:pt x="930" y="464"/>
                  <a:pt x="977" y="438"/>
                </a:cubicBezTo>
                <a:cubicBezTo>
                  <a:pt x="993" y="429"/>
                  <a:pt x="1006" y="414"/>
                  <a:pt x="1023" y="408"/>
                </a:cubicBezTo>
                <a:cubicBezTo>
                  <a:pt x="1038" y="403"/>
                  <a:pt x="1069" y="392"/>
                  <a:pt x="1069" y="392"/>
                </a:cubicBezTo>
                <a:cubicBezTo>
                  <a:pt x="1128" y="402"/>
                  <a:pt x="1131" y="408"/>
                  <a:pt x="1177" y="438"/>
                </a:cubicBezTo>
                <a:cubicBezTo>
                  <a:pt x="1192" y="488"/>
                  <a:pt x="1236" y="506"/>
                  <a:pt x="1284" y="515"/>
                </a:cubicBezTo>
                <a:cubicBezTo>
                  <a:pt x="1401" y="507"/>
                  <a:pt x="1360" y="518"/>
                  <a:pt x="1423" y="477"/>
                </a:cubicBezTo>
                <a:cubicBezTo>
                  <a:pt x="1438" y="454"/>
                  <a:pt x="1485" y="370"/>
                  <a:pt x="1515" y="361"/>
                </a:cubicBezTo>
                <a:cubicBezTo>
                  <a:pt x="1546" y="352"/>
                  <a:pt x="1530" y="357"/>
                  <a:pt x="1561" y="346"/>
                </a:cubicBezTo>
                <a:cubicBezTo>
                  <a:pt x="1587" y="349"/>
                  <a:pt x="1614" y="344"/>
                  <a:pt x="1638" y="354"/>
                </a:cubicBezTo>
                <a:cubicBezTo>
                  <a:pt x="1655" y="361"/>
                  <a:pt x="1662" y="382"/>
                  <a:pt x="1677" y="392"/>
                </a:cubicBezTo>
                <a:cubicBezTo>
                  <a:pt x="1715" y="418"/>
                  <a:pt x="1728" y="425"/>
                  <a:pt x="1769" y="438"/>
                </a:cubicBezTo>
                <a:cubicBezTo>
                  <a:pt x="1879" y="430"/>
                  <a:pt x="1857" y="446"/>
                  <a:pt x="1915" y="384"/>
                </a:cubicBezTo>
                <a:cubicBezTo>
                  <a:pt x="1934" y="329"/>
                  <a:pt x="1950" y="288"/>
                  <a:pt x="2008" y="269"/>
                </a:cubicBezTo>
                <a:cubicBezTo>
                  <a:pt x="2066" y="279"/>
                  <a:pt x="2056" y="286"/>
                  <a:pt x="2100" y="315"/>
                </a:cubicBezTo>
                <a:cubicBezTo>
                  <a:pt x="2113" y="314"/>
                  <a:pt x="2181" y="315"/>
                  <a:pt x="2208" y="300"/>
                </a:cubicBezTo>
                <a:cubicBezTo>
                  <a:pt x="2224" y="291"/>
                  <a:pt x="2254" y="269"/>
                  <a:pt x="2254" y="269"/>
                </a:cubicBezTo>
                <a:cubicBezTo>
                  <a:pt x="2266" y="251"/>
                  <a:pt x="2281" y="234"/>
                  <a:pt x="2292" y="215"/>
                </a:cubicBezTo>
                <a:cubicBezTo>
                  <a:pt x="2312" y="180"/>
                  <a:pt x="2313" y="142"/>
                  <a:pt x="2346" y="115"/>
                </a:cubicBezTo>
                <a:cubicBezTo>
                  <a:pt x="2374" y="92"/>
                  <a:pt x="2412" y="86"/>
                  <a:pt x="2446" y="77"/>
                </a:cubicBezTo>
                <a:cubicBezTo>
                  <a:pt x="2469" y="80"/>
                  <a:pt x="2493" y="79"/>
                  <a:pt x="2515" y="85"/>
                </a:cubicBezTo>
                <a:cubicBezTo>
                  <a:pt x="2550" y="94"/>
                  <a:pt x="2551" y="146"/>
                  <a:pt x="2569" y="169"/>
                </a:cubicBezTo>
                <a:cubicBezTo>
                  <a:pt x="2579" y="182"/>
                  <a:pt x="2596" y="188"/>
                  <a:pt x="2607" y="200"/>
                </a:cubicBezTo>
                <a:cubicBezTo>
                  <a:pt x="2655" y="188"/>
                  <a:pt x="2655" y="176"/>
                  <a:pt x="2684" y="131"/>
                </a:cubicBezTo>
                <a:cubicBezTo>
                  <a:pt x="2694" y="116"/>
                  <a:pt x="2710" y="105"/>
                  <a:pt x="2723" y="92"/>
                </a:cubicBezTo>
                <a:cubicBezTo>
                  <a:pt x="2733" y="82"/>
                  <a:pt x="2754" y="61"/>
                  <a:pt x="2754" y="61"/>
                </a:cubicBezTo>
                <a:cubicBezTo>
                  <a:pt x="2766" y="21"/>
                  <a:pt x="2793" y="13"/>
                  <a:pt x="2831" y="0"/>
                </a:cubicBezTo>
                <a:cubicBezTo>
                  <a:pt x="2864" y="3"/>
                  <a:pt x="2898" y="2"/>
                  <a:pt x="2931" y="8"/>
                </a:cubicBezTo>
                <a:cubicBezTo>
                  <a:pt x="2949" y="11"/>
                  <a:pt x="2989" y="63"/>
                  <a:pt x="3007" y="77"/>
                </a:cubicBezTo>
                <a:cubicBezTo>
                  <a:pt x="3048" y="109"/>
                  <a:pt x="3112" y="116"/>
                  <a:pt x="3161" y="123"/>
                </a:cubicBezTo>
                <a:cubicBezTo>
                  <a:pt x="3243" y="120"/>
                  <a:pt x="3325" y="119"/>
                  <a:pt x="3407" y="115"/>
                </a:cubicBezTo>
                <a:cubicBezTo>
                  <a:pt x="3505" y="110"/>
                  <a:pt x="3614" y="70"/>
                  <a:pt x="3707" y="38"/>
                </a:cubicBezTo>
                <a:cubicBezTo>
                  <a:pt x="3761" y="41"/>
                  <a:pt x="3861" y="34"/>
                  <a:pt x="3923" y="61"/>
                </a:cubicBezTo>
                <a:cubicBezTo>
                  <a:pt x="3975" y="83"/>
                  <a:pt x="4023" y="121"/>
                  <a:pt x="4077" y="138"/>
                </a:cubicBezTo>
                <a:cubicBezTo>
                  <a:pt x="4121" y="183"/>
                  <a:pt x="4098" y="172"/>
                  <a:pt x="4138" y="184"/>
                </a:cubicBezTo>
                <a:cubicBezTo>
                  <a:pt x="4228" y="247"/>
                  <a:pt x="4350" y="235"/>
                  <a:pt x="4454" y="238"/>
                </a:cubicBezTo>
                <a:cubicBezTo>
                  <a:pt x="4569" y="241"/>
                  <a:pt x="4685" y="243"/>
                  <a:pt x="4800" y="246"/>
                </a:cubicBezTo>
                <a:cubicBezTo>
                  <a:pt x="4803" y="246"/>
                  <a:pt x="4858" y="254"/>
                  <a:pt x="4869" y="261"/>
                </a:cubicBezTo>
                <a:cubicBezTo>
                  <a:pt x="4921" y="292"/>
                  <a:pt x="4843" y="264"/>
                  <a:pt x="4907" y="284"/>
                </a:cubicBezTo>
                <a:cubicBezTo>
                  <a:pt x="4942" y="319"/>
                  <a:pt x="4975" y="352"/>
                  <a:pt x="4992" y="400"/>
                </a:cubicBezTo>
                <a:cubicBezTo>
                  <a:pt x="4984" y="467"/>
                  <a:pt x="4952" y="571"/>
                  <a:pt x="4992" y="631"/>
                </a:cubicBezTo>
                <a:cubicBezTo>
                  <a:pt x="5011" y="659"/>
                  <a:pt x="5038" y="684"/>
                  <a:pt x="5061" y="708"/>
                </a:cubicBezTo>
                <a:cubicBezTo>
                  <a:pt x="5084" y="775"/>
                  <a:pt x="5067" y="835"/>
                  <a:pt x="5015" y="877"/>
                </a:cubicBezTo>
                <a:cubicBezTo>
                  <a:pt x="4994" y="894"/>
                  <a:pt x="4954" y="931"/>
                  <a:pt x="4954" y="931"/>
                </a:cubicBezTo>
                <a:cubicBezTo>
                  <a:pt x="4916" y="1041"/>
                  <a:pt x="4950" y="1181"/>
                  <a:pt x="4984" y="1292"/>
                </a:cubicBezTo>
                <a:cubicBezTo>
                  <a:pt x="4956" y="1334"/>
                  <a:pt x="4924" y="1343"/>
                  <a:pt x="4884" y="1369"/>
                </a:cubicBezTo>
                <a:cubicBezTo>
                  <a:pt x="4816" y="1362"/>
                  <a:pt x="4767" y="1353"/>
                  <a:pt x="4700" y="1361"/>
                </a:cubicBezTo>
                <a:cubicBezTo>
                  <a:pt x="4675" y="1386"/>
                  <a:pt x="4672" y="1421"/>
                  <a:pt x="4661" y="1454"/>
                </a:cubicBezTo>
                <a:cubicBezTo>
                  <a:pt x="4659" y="1462"/>
                  <a:pt x="4660" y="1471"/>
                  <a:pt x="4654" y="1477"/>
                </a:cubicBezTo>
                <a:cubicBezTo>
                  <a:pt x="4642" y="1488"/>
                  <a:pt x="4623" y="1487"/>
                  <a:pt x="4607" y="1492"/>
                </a:cubicBezTo>
                <a:cubicBezTo>
                  <a:pt x="4508" y="1486"/>
                  <a:pt x="4422" y="1478"/>
                  <a:pt x="4338" y="1423"/>
                </a:cubicBezTo>
                <a:cubicBezTo>
                  <a:pt x="4312" y="1426"/>
                  <a:pt x="4286" y="1423"/>
                  <a:pt x="4261" y="1431"/>
                </a:cubicBezTo>
                <a:cubicBezTo>
                  <a:pt x="4241" y="1437"/>
                  <a:pt x="4222" y="1477"/>
                  <a:pt x="4207" y="1492"/>
                </a:cubicBezTo>
                <a:cubicBezTo>
                  <a:pt x="4195" y="1530"/>
                  <a:pt x="4188" y="1547"/>
                  <a:pt x="4154" y="1569"/>
                </a:cubicBezTo>
                <a:cubicBezTo>
                  <a:pt x="4095" y="1562"/>
                  <a:pt x="4042" y="1550"/>
                  <a:pt x="3984" y="1538"/>
                </a:cubicBezTo>
                <a:cubicBezTo>
                  <a:pt x="3953" y="1541"/>
                  <a:pt x="3922" y="1538"/>
                  <a:pt x="3892" y="1546"/>
                </a:cubicBezTo>
                <a:cubicBezTo>
                  <a:pt x="3857" y="1555"/>
                  <a:pt x="3856" y="1654"/>
                  <a:pt x="3838" y="1684"/>
                </a:cubicBezTo>
                <a:cubicBezTo>
                  <a:pt x="3817" y="1720"/>
                  <a:pt x="3775" y="1730"/>
                  <a:pt x="3738" y="1738"/>
                </a:cubicBezTo>
                <a:cubicBezTo>
                  <a:pt x="3672" y="1732"/>
                  <a:pt x="3630" y="1726"/>
                  <a:pt x="3569" y="1707"/>
                </a:cubicBezTo>
                <a:cubicBezTo>
                  <a:pt x="3546" y="1700"/>
                  <a:pt x="3500" y="1684"/>
                  <a:pt x="3500" y="1684"/>
                </a:cubicBezTo>
                <a:cubicBezTo>
                  <a:pt x="3418" y="1690"/>
                  <a:pt x="3399" y="1675"/>
                  <a:pt x="3354" y="1723"/>
                </a:cubicBezTo>
                <a:cubicBezTo>
                  <a:pt x="3339" y="1768"/>
                  <a:pt x="3358" y="1727"/>
                  <a:pt x="3323" y="1761"/>
                </a:cubicBezTo>
                <a:cubicBezTo>
                  <a:pt x="3254" y="1828"/>
                  <a:pt x="3257" y="1841"/>
                  <a:pt x="3154" y="1854"/>
                </a:cubicBezTo>
                <a:cubicBezTo>
                  <a:pt x="3105" y="1902"/>
                  <a:pt x="3058" y="1964"/>
                  <a:pt x="3023" y="2023"/>
                </a:cubicBezTo>
                <a:cubicBezTo>
                  <a:pt x="2990" y="2079"/>
                  <a:pt x="2972" y="2124"/>
                  <a:pt x="2915" y="2161"/>
                </a:cubicBezTo>
                <a:cubicBezTo>
                  <a:pt x="2874" y="2158"/>
                  <a:pt x="2832" y="2162"/>
                  <a:pt x="2792" y="2153"/>
                </a:cubicBezTo>
                <a:cubicBezTo>
                  <a:pt x="2755" y="2145"/>
                  <a:pt x="2741" y="2110"/>
                  <a:pt x="2707" y="2100"/>
                </a:cubicBezTo>
                <a:cubicBezTo>
                  <a:pt x="2676" y="2102"/>
                  <a:pt x="2645" y="2101"/>
                  <a:pt x="2615" y="2107"/>
                </a:cubicBezTo>
                <a:cubicBezTo>
                  <a:pt x="2601" y="2110"/>
                  <a:pt x="2578" y="2139"/>
                  <a:pt x="2569" y="2146"/>
                </a:cubicBezTo>
                <a:cubicBezTo>
                  <a:pt x="2545" y="2166"/>
                  <a:pt x="2522" y="2190"/>
                  <a:pt x="2492" y="2200"/>
                </a:cubicBezTo>
                <a:cubicBezTo>
                  <a:pt x="2459" y="2225"/>
                  <a:pt x="2422" y="2238"/>
                  <a:pt x="2384" y="2253"/>
                </a:cubicBezTo>
                <a:cubicBezTo>
                  <a:pt x="2369" y="2259"/>
                  <a:pt x="2338" y="2269"/>
                  <a:pt x="2338" y="2269"/>
                </a:cubicBezTo>
                <a:cubicBezTo>
                  <a:pt x="2264" y="2259"/>
                  <a:pt x="2270" y="2259"/>
                  <a:pt x="2215" y="2223"/>
                </a:cubicBezTo>
                <a:cubicBezTo>
                  <a:pt x="2184" y="2175"/>
                  <a:pt x="2139" y="2153"/>
                  <a:pt x="2092" y="2123"/>
                </a:cubicBezTo>
                <a:cubicBezTo>
                  <a:pt x="2020" y="2128"/>
                  <a:pt x="2019" y="2123"/>
                  <a:pt x="1969" y="2138"/>
                </a:cubicBezTo>
                <a:cubicBezTo>
                  <a:pt x="1913" y="2155"/>
                  <a:pt x="1865" y="2190"/>
                  <a:pt x="1808" y="2207"/>
                </a:cubicBezTo>
                <a:cubicBezTo>
                  <a:pt x="1776" y="2200"/>
                  <a:pt x="1751" y="2195"/>
                  <a:pt x="1723" y="2177"/>
                </a:cubicBezTo>
                <a:cubicBezTo>
                  <a:pt x="1704" y="2121"/>
                  <a:pt x="1730" y="2187"/>
                  <a:pt x="1692" y="2130"/>
                </a:cubicBezTo>
                <a:cubicBezTo>
                  <a:pt x="1670" y="2097"/>
                  <a:pt x="1667" y="2051"/>
                  <a:pt x="1638" y="2023"/>
                </a:cubicBezTo>
                <a:cubicBezTo>
                  <a:pt x="1614" y="1944"/>
                  <a:pt x="1490" y="1937"/>
                  <a:pt x="1423" y="1930"/>
                </a:cubicBezTo>
                <a:cubicBezTo>
                  <a:pt x="1392" y="1933"/>
                  <a:pt x="1361" y="1933"/>
                  <a:pt x="1331" y="1938"/>
                </a:cubicBezTo>
                <a:cubicBezTo>
                  <a:pt x="1315" y="1941"/>
                  <a:pt x="1300" y="1949"/>
                  <a:pt x="1284" y="1954"/>
                </a:cubicBezTo>
                <a:cubicBezTo>
                  <a:pt x="1276" y="1957"/>
                  <a:pt x="1261" y="1961"/>
                  <a:pt x="1261" y="1961"/>
                </a:cubicBezTo>
                <a:cubicBezTo>
                  <a:pt x="1207" y="1956"/>
                  <a:pt x="1182" y="1965"/>
                  <a:pt x="1154" y="1923"/>
                </a:cubicBezTo>
                <a:cubicBezTo>
                  <a:pt x="1149" y="1902"/>
                  <a:pt x="1153" y="1876"/>
                  <a:pt x="1138" y="1861"/>
                </a:cubicBezTo>
                <a:cubicBezTo>
                  <a:pt x="1099" y="1822"/>
                  <a:pt x="1070" y="1789"/>
                  <a:pt x="1015" y="1777"/>
                </a:cubicBezTo>
                <a:cubicBezTo>
                  <a:pt x="960" y="1782"/>
                  <a:pt x="883" y="1786"/>
                  <a:pt x="831" y="1815"/>
                </a:cubicBezTo>
                <a:cubicBezTo>
                  <a:pt x="815" y="1824"/>
                  <a:pt x="802" y="1840"/>
                  <a:pt x="784" y="1846"/>
                </a:cubicBezTo>
                <a:cubicBezTo>
                  <a:pt x="746" y="1859"/>
                  <a:pt x="708" y="1872"/>
                  <a:pt x="669" y="1884"/>
                </a:cubicBezTo>
                <a:cubicBezTo>
                  <a:pt x="641" y="1882"/>
                  <a:pt x="611" y="1886"/>
                  <a:pt x="584" y="1877"/>
                </a:cubicBezTo>
                <a:cubicBezTo>
                  <a:pt x="580" y="1876"/>
                  <a:pt x="567" y="1819"/>
                  <a:pt x="561" y="1800"/>
                </a:cubicBezTo>
                <a:cubicBezTo>
                  <a:pt x="547" y="1757"/>
                  <a:pt x="520" y="1722"/>
                  <a:pt x="477" y="1707"/>
                </a:cubicBezTo>
                <a:cubicBezTo>
                  <a:pt x="371" y="1721"/>
                  <a:pt x="279" y="1766"/>
                  <a:pt x="177" y="1792"/>
                </a:cubicBezTo>
                <a:cubicBezTo>
                  <a:pt x="117" y="1782"/>
                  <a:pt x="138" y="1777"/>
                  <a:pt x="92" y="1761"/>
                </a:cubicBezTo>
                <a:cubicBezTo>
                  <a:pt x="84" y="1735"/>
                  <a:pt x="70" y="1717"/>
                  <a:pt x="61" y="1692"/>
                </a:cubicBezTo>
                <a:cubicBezTo>
                  <a:pt x="64" y="1671"/>
                  <a:pt x="62" y="1650"/>
                  <a:pt x="69" y="1630"/>
                </a:cubicBezTo>
                <a:cubicBezTo>
                  <a:pt x="86" y="1584"/>
                  <a:pt x="99" y="1592"/>
                  <a:pt x="123" y="1561"/>
                </a:cubicBezTo>
                <a:cubicBezTo>
                  <a:pt x="134" y="1546"/>
                  <a:pt x="154" y="1515"/>
                  <a:pt x="154" y="1515"/>
                </a:cubicBezTo>
                <a:cubicBezTo>
                  <a:pt x="167" y="1473"/>
                  <a:pt x="184" y="1416"/>
                  <a:pt x="154" y="1377"/>
                </a:cubicBezTo>
                <a:cubicBezTo>
                  <a:pt x="148" y="1370"/>
                  <a:pt x="138" y="1367"/>
                  <a:pt x="131" y="1361"/>
                </a:cubicBezTo>
                <a:cubicBezTo>
                  <a:pt x="88" y="1324"/>
                  <a:pt x="18" y="1268"/>
                  <a:pt x="0" y="1215"/>
                </a:cubicBezTo>
                <a:cubicBezTo>
                  <a:pt x="4" y="1193"/>
                  <a:pt x="3" y="1162"/>
                  <a:pt x="23" y="1146"/>
                </a:cubicBezTo>
                <a:cubicBezTo>
                  <a:pt x="29" y="1141"/>
                  <a:pt x="39" y="1142"/>
                  <a:pt x="46" y="1138"/>
                </a:cubicBezTo>
                <a:cubicBezTo>
                  <a:pt x="77" y="1123"/>
                  <a:pt x="105" y="1103"/>
                  <a:pt x="138" y="1092"/>
                </a:cubicBezTo>
                <a:cubicBezTo>
                  <a:pt x="172" y="1060"/>
                  <a:pt x="199" y="1015"/>
                  <a:pt x="185" y="969"/>
                </a:cubicBez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4952880"/>
            <a:ext cx="3810240" cy="1828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2057400"/>
            <a:ext cx="3886200" cy="2743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914400" y="3429000"/>
            <a:ext cx="3657600" cy="3322800"/>
          </a:xfrm>
          <a:prstGeom prst="roundRect">
            <a:avLst>
              <a:gd name="adj" fmla="val 1208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447920" y="48006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047240" y="4390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57400" y="4343400"/>
            <a:ext cx="914400" cy="1066680"/>
          </a:xfrm>
          <a:prstGeom prst="foldedCorner">
            <a:avLst>
              <a:gd name="adj" fmla="val 1805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342880" y="4238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342880" y="4695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3581280"/>
            <a:ext cx="914400" cy="1067040"/>
          </a:xfrm>
          <a:prstGeom prst="foldedCorner">
            <a:avLst>
              <a:gd name="adj" fmla="val 1805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4191120" y="3755880"/>
            <a:ext cx="1143000" cy="228600"/>
            <a:chOff x="4191120" y="3755880"/>
            <a:chExt cx="1143000" cy="228600"/>
          </a:xfrm>
        </p:grpSpPr>
        <p:sp>
          <p:nvSpPr>
            <p:cNvPr id="515" name=""/>
            <p:cNvSpPr/>
            <p:nvPr/>
          </p:nvSpPr>
          <p:spPr>
            <a:xfrm>
              <a:off x="4191120" y="383220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191120" y="390852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51600" y="3755880"/>
              <a:ext cx="182520" cy="228600"/>
            </a:xfrm>
            <a:prstGeom prst="rightArrow">
              <a:avLst>
                <a:gd name="adj1" fmla="val 60130"/>
                <a:gd name="adj2" fmla="val 10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3714480" y="3552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14480" y="40100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05320" y="5181480"/>
            <a:ext cx="914400" cy="1067040"/>
          </a:xfrm>
          <a:prstGeom prst="foldedCorner">
            <a:avLst>
              <a:gd name="adj" fmla="val 1805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790440" y="5381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743200" y="4266720"/>
            <a:ext cx="76212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743200" y="5105520"/>
            <a:ext cx="7621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4120" y="3168720"/>
            <a:ext cx="914400" cy="1066680"/>
          </a:xfrm>
          <a:prstGeom prst="foldedCorner">
            <a:avLst>
              <a:gd name="adj" fmla="val 1805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19240" y="3063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19240" y="3597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34120" y="5181480"/>
            <a:ext cx="914400" cy="1067040"/>
          </a:xfrm>
          <a:prstGeom prst="foldedCorner">
            <a:avLst>
              <a:gd name="adj" fmla="val 1805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89080" y="5349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91120" y="5638680"/>
            <a:ext cx="1143000" cy="228600"/>
            <a:chOff x="4191120" y="5638680"/>
            <a:chExt cx="1143000" cy="228600"/>
          </a:xfrm>
        </p:grpSpPr>
        <p:sp>
          <p:nvSpPr>
            <p:cNvPr id="530" name=""/>
            <p:cNvSpPr/>
            <p:nvPr/>
          </p:nvSpPr>
          <p:spPr>
            <a:xfrm>
              <a:off x="4191120" y="571500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91120" y="579132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51600" y="5638680"/>
              <a:ext cx="182520" cy="228600"/>
            </a:xfrm>
            <a:prstGeom prst="rightArrow">
              <a:avLst>
                <a:gd name="adj1" fmla="val 60130"/>
                <a:gd name="adj2" fmla="val 10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4095360" y="4385520"/>
            <a:ext cx="1328400" cy="1270080"/>
            <a:chOff x="4095360" y="4385520"/>
            <a:chExt cx="1328400" cy="1270080"/>
          </a:xfrm>
        </p:grpSpPr>
        <p:sp>
          <p:nvSpPr>
            <p:cNvPr id="534" name=""/>
            <p:cNvSpPr/>
            <p:nvPr/>
          </p:nvSpPr>
          <p:spPr>
            <a:xfrm>
              <a:off x="4146840" y="4385520"/>
              <a:ext cx="1062000" cy="100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95360" y="4439520"/>
              <a:ext cx="1062000" cy="100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2608800">
              <a:off x="5113800" y="5369400"/>
              <a:ext cx="269640" cy="223920"/>
            </a:xfrm>
            <a:prstGeom prst="rightArrow">
              <a:avLst>
                <a:gd name="adj1" fmla="val 60130"/>
                <a:gd name="adj2" fmla="val 12041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7086600" y="3657600"/>
            <a:ext cx="914400" cy="1066680"/>
          </a:xfrm>
          <a:prstGeom prst="foldedCorner">
            <a:avLst>
              <a:gd name="adj" fmla="val 1805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086600" y="2438280"/>
            <a:ext cx="914400" cy="1067040"/>
          </a:xfrm>
          <a:prstGeom prst="foldedCorner">
            <a:avLst>
              <a:gd name="adj" fmla="val 1805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7074000" y="2646360"/>
            <a:ext cx="1095120" cy="477720"/>
            <a:chOff x="7074000" y="2646360"/>
            <a:chExt cx="1095120" cy="477720"/>
          </a:xfrm>
        </p:grpSpPr>
        <p:sp>
          <p:nvSpPr>
            <p:cNvPr id="540" name=""/>
            <p:cNvSpPr/>
            <p:nvPr/>
          </p:nvSpPr>
          <p:spPr>
            <a:xfrm>
              <a:off x="7162560" y="2743200"/>
              <a:ext cx="761760" cy="380880"/>
            </a:xfrm>
            <a:prstGeom prst="roundRect">
              <a:avLst>
                <a:gd name="adj" fmla="val 4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74000" y="26463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pa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7086600" y="5181480"/>
            <a:ext cx="914400" cy="1067040"/>
          </a:xfrm>
          <a:prstGeom prst="foldedCorner">
            <a:avLst>
              <a:gd name="adj" fmla="val 1805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7074000" y="5389560"/>
            <a:ext cx="1095120" cy="477720"/>
            <a:chOff x="7074000" y="5389560"/>
            <a:chExt cx="1095120" cy="477720"/>
          </a:xfrm>
        </p:grpSpPr>
        <p:sp>
          <p:nvSpPr>
            <p:cNvPr id="544" name=""/>
            <p:cNvSpPr/>
            <p:nvPr/>
          </p:nvSpPr>
          <p:spPr>
            <a:xfrm>
              <a:off x="7162560" y="5486400"/>
              <a:ext cx="761760" cy="380880"/>
            </a:xfrm>
            <a:prstGeom prst="roundRect">
              <a:avLst>
                <a:gd name="adj" fmla="val 4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74000" y="53895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pa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 flipV="1">
            <a:off x="6019920" y="3048120"/>
            <a:ext cx="10666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19920" y="3962520"/>
            <a:ext cx="10666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19920" y="57150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34640" y="387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U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864880" y="3421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U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74720" y="470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U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03520" y="2689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U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41600" y="4930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U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894080" y="2187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U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894080" y="3406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U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894080" y="4930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U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351440" y="6019920"/>
            <a:ext cx="12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ーバ</a:t>
            </a:r>
            <a:r>
              <a:rPr b="1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89920" y="1981080"/>
            <a:ext cx="12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ーバ</a:t>
            </a:r>
            <a:r>
              <a:rPr b="1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72760" y="6172200"/>
            <a:ext cx="12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ーバ</a:t>
            </a:r>
            <a:r>
              <a:rPr b="1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152280" y="152280"/>
            <a:ext cx="9296640" cy="1373760"/>
            <a:chOff x="152280" y="152280"/>
            <a:chExt cx="9296640" cy="1373760"/>
          </a:xfrm>
        </p:grpSpPr>
        <p:sp>
          <p:nvSpPr>
            <p:cNvPr id="561" name=""/>
            <p:cNvSpPr/>
            <p:nvPr/>
          </p:nvSpPr>
          <p:spPr>
            <a:xfrm>
              <a:off x="152280" y="152280"/>
              <a:ext cx="9296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Times New Roman"/>
                </a:rPr>
                <a:t>Ａ    </a:t>
              </a:r>
              <a:r>
                <a:rPr b="0" lang="ja-JP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ja-JP" sz="4800" spc="-1" strike="noStrike">
                  <a:solidFill>
                    <a:srgbClr val="000000"/>
                  </a:solidFill>
                  <a:latin typeface="Times New Roman"/>
                </a:rPr>
                <a:t>（    </a:t>
              </a:r>
              <a:r>
                <a:rPr b="0" lang="ja-JP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ja-JP" sz="4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ja-JP" sz="4800" spc="-1" strike="noStrike">
                  <a:solidFill>
                    <a:srgbClr val="000000"/>
                  </a:solidFill>
                  <a:latin typeface="Times New Roman"/>
                </a:rPr>
                <a:t>*     </a:t>
              </a:r>
              <a:r>
                <a:rPr b="0" lang="ja-JP" sz="4800" spc="-1" strike="noStrike">
                  <a:solidFill>
                    <a:srgbClr val="000000"/>
                  </a:solidFill>
                  <a:latin typeface="Times New Roman"/>
                </a:rPr>
                <a:t>Ｂ（    </a:t>
              </a:r>
              <a:r>
                <a:rPr b="0" lang="ja-JP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ja-JP" sz="4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ja-JP" sz="4800" spc="-1" strike="noStrike">
                  <a:solidFill>
                    <a:srgbClr val="000000"/>
                  </a:solidFill>
                  <a:latin typeface="Times New Roman"/>
                </a:rPr>
                <a:t>*    </a:t>
              </a:r>
              <a:r>
                <a:rPr b="0" lang="ja-JP" sz="4800" spc="-1" strike="noStrike">
                  <a:solidFill>
                    <a:srgbClr val="000000"/>
                  </a:solidFill>
                  <a:latin typeface="Times New Roman"/>
                </a:rPr>
                <a:t>Ｃ </a:t>
              </a:r>
              <a:r>
                <a:rPr b="0" lang="ja-JP" sz="3600" spc="-1" strike="noStrike">
                  <a:solidFill>
                    <a:srgbClr val="000000"/>
                  </a:solidFill>
                  <a:latin typeface="Times New Roman"/>
                </a:rPr>
                <a:t>[“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paper”]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62120" y="59508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52480" y="595080"/>
              <a:ext cx="533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3184560" y="442800"/>
              <a:ext cx="549000" cy="228600"/>
              <a:chOff x="3184560" y="442800"/>
              <a:chExt cx="549000" cy="228600"/>
            </a:xfrm>
          </p:grpSpPr>
          <p:sp>
            <p:nvSpPr>
              <p:cNvPr id="565" name=""/>
              <p:cNvSpPr/>
              <p:nvPr/>
            </p:nvSpPr>
            <p:spPr>
              <a:xfrm>
                <a:off x="3184560" y="519120"/>
                <a:ext cx="36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184560" y="595080"/>
                <a:ext cx="36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550680" y="442800"/>
                <a:ext cx="182880" cy="228600"/>
              </a:xfrm>
              <a:prstGeom prst="rightArrow">
                <a:avLst>
                  <a:gd name="adj1" fmla="val 60130"/>
                  <a:gd name="adj2" fmla="val 10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4648320" y="59508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019920" y="59508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33520" y="1077840"/>
            <a:ext cx="2209680" cy="2133720"/>
            <a:chOff x="533520" y="1077840"/>
            <a:chExt cx="2209680" cy="2133720"/>
          </a:xfrm>
        </p:grpSpPr>
        <p:sp>
          <p:nvSpPr>
            <p:cNvPr id="571" name=""/>
            <p:cNvSpPr/>
            <p:nvPr/>
          </p:nvSpPr>
          <p:spPr>
            <a:xfrm>
              <a:off x="533520" y="1077840"/>
              <a:ext cx="2209680" cy="2133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33520" y="161136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143000" y="1077840"/>
              <a:ext cx="0" cy="213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95080" y="11462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3320" y="2016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143000" y="123048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981080" y="1230480"/>
              <a:ext cx="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357200" y="11462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119320" y="11462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43000" y="2144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143000" y="26780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447920" y="3200400"/>
            <a:ext cx="5638680" cy="1676520"/>
            <a:chOff x="1447920" y="3200400"/>
            <a:chExt cx="5638680" cy="1676520"/>
          </a:xfrm>
        </p:grpSpPr>
        <p:sp>
          <p:nvSpPr>
            <p:cNvPr id="583" name=""/>
            <p:cNvSpPr/>
            <p:nvPr/>
          </p:nvSpPr>
          <p:spPr>
            <a:xfrm>
              <a:off x="1447920" y="3200400"/>
              <a:ext cx="5638680" cy="1676520"/>
            </a:xfrm>
            <a:custGeom>
              <a:avLst/>
              <a:gdLst/>
              <a:ahLst/>
              <a:rect l="l" t="t" r="r" b="b"/>
              <a:pathLst>
                <a:path w="3552" h="1056">
                  <a:moveTo>
                    <a:pt x="0" y="912"/>
                  </a:moveTo>
                  <a:cubicBezTo>
                    <a:pt x="252" y="984"/>
                    <a:pt x="504" y="1056"/>
                    <a:pt x="768" y="960"/>
                  </a:cubicBezTo>
                  <a:cubicBezTo>
                    <a:pt x="1032" y="864"/>
                    <a:pt x="1240" y="440"/>
                    <a:pt x="1584" y="336"/>
                  </a:cubicBezTo>
                  <a:cubicBezTo>
                    <a:pt x="1928" y="232"/>
                    <a:pt x="2504" y="392"/>
                    <a:pt x="2832" y="336"/>
                  </a:cubicBezTo>
                  <a:cubicBezTo>
                    <a:pt x="3160" y="280"/>
                    <a:pt x="3432" y="56"/>
                    <a:pt x="3552" y="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6934320" y="3200400"/>
              <a:ext cx="15228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1447920" y="4241880"/>
            <a:ext cx="5638680" cy="1473120"/>
            <a:chOff x="1447920" y="4241880"/>
            <a:chExt cx="5638680" cy="1473120"/>
          </a:xfrm>
        </p:grpSpPr>
        <p:sp>
          <p:nvSpPr>
            <p:cNvPr id="586" name=""/>
            <p:cNvSpPr/>
            <p:nvPr/>
          </p:nvSpPr>
          <p:spPr>
            <a:xfrm>
              <a:off x="1447920" y="4241880"/>
              <a:ext cx="5562360" cy="1473120"/>
            </a:xfrm>
            <a:custGeom>
              <a:avLst/>
              <a:gdLst/>
              <a:ahLst/>
              <a:rect l="l" t="t" r="r" b="b"/>
              <a:pathLst>
                <a:path w="3504" h="928">
                  <a:moveTo>
                    <a:pt x="0" y="304"/>
                  </a:moveTo>
                  <a:cubicBezTo>
                    <a:pt x="224" y="372"/>
                    <a:pt x="448" y="440"/>
                    <a:pt x="672" y="400"/>
                  </a:cubicBezTo>
                  <a:cubicBezTo>
                    <a:pt x="896" y="360"/>
                    <a:pt x="1192" y="128"/>
                    <a:pt x="1344" y="64"/>
                  </a:cubicBezTo>
                  <a:cubicBezTo>
                    <a:pt x="1496" y="0"/>
                    <a:pt x="1512" y="16"/>
                    <a:pt x="1584" y="16"/>
                  </a:cubicBezTo>
                  <a:cubicBezTo>
                    <a:pt x="1656" y="16"/>
                    <a:pt x="1696" y="24"/>
                    <a:pt x="1776" y="64"/>
                  </a:cubicBezTo>
                  <a:cubicBezTo>
                    <a:pt x="1856" y="104"/>
                    <a:pt x="1920" y="128"/>
                    <a:pt x="2064" y="256"/>
                  </a:cubicBezTo>
                  <a:cubicBezTo>
                    <a:pt x="2208" y="384"/>
                    <a:pt x="2400" y="736"/>
                    <a:pt x="2640" y="832"/>
                  </a:cubicBezTo>
                  <a:cubicBezTo>
                    <a:pt x="2880" y="928"/>
                    <a:pt x="3360" y="832"/>
                    <a:pt x="3504" y="832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81680" y="5562720"/>
              <a:ext cx="30492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354680" y="1482840"/>
            <a:ext cx="1186560" cy="657360"/>
            <a:chOff x="1354680" y="1482840"/>
            <a:chExt cx="1186560" cy="657360"/>
          </a:xfrm>
        </p:grpSpPr>
        <p:sp>
          <p:nvSpPr>
            <p:cNvPr id="589" name=""/>
            <p:cNvSpPr/>
            <p:nvPr/>
          </p:nvSpPr>
          <p:spPr>
            <a:xfrm>
              <a:off x="1354680" y="15588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ＭＳ ゴシック"/>
                  <a:ea typeface="ＭＳ ゴシック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116800" y="14828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ＭＳ ゴシック"/>
                  <a:ea typeface="ＭＳ ゴシック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1370520" y="2060640"/>
            <a:ext cx="1246680" cy="657360"/>
            <a:chOff x="1370520" y="2060640"/>
            <a:chExt cx="1246680" cy="657360"/>
          </a:xfrm>
        </p:grpSpPr>
        <p:sp>
          <p:nvSpPr>
            <p:cNvPr id="592" name=""/>
            <p:cNvSpPr/>
            <p:nvPr/>
          </p:nvSpPr>
          <p:spPr>
            <a:xfrm>
              <a:off x="1370520" y="20606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33"/>
                  </a:solidFill>
                  <a:latin typeface="ＭＳ ゴシック"/>
                  <a:ea typeface="ＭＳ ゴシック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192760" y="21366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33"/>
                  </a:solidFill>
                  <a:latin typeface="ＭＳ ゴシック"/>
                  <a:ea typeface="ＭＳ ゴシック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370520" y="2670120"/>
            <a:ext cx="1246680" cy="581400"/>
            <a:chOff x="1370520" y="2670120"/>
            <a:chExt cx="1246680" cy="581400"/>
          </a:xfrm>
        </p:grpSpPr>
        <p:sp>
          <p:nvSpPr>
            <p:cNvPr id="595" name=""/>
            <p:cNvSpPr/>
            <p:nvPr/>
          </p:nvSpPr>
          <p:spPr>
            <a:xfrm>
              <a:off x="1370520" y="26701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9900"/>
                  </a:solidFill>
                  <a:latin typeface="ＭＳ ゴシック"/>
                  <a:ea typeface="ＭＳ ゴシック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192760" y="26701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9900"/>
                  </a:solidFill>
                  <a:latin typeface="ＭＳ ゴシック"/>
                  <a:ea typeface="ＭＳ ゴシック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523880" y="4762440"/>
            <a:ext cx="5484240" cy="1409760"/>
            <a:chOff x="1523880" y="4762440"/>
            <a:chExt cx="5484240" cy="1409760"/>
          </a:xfrm>
        </p:grpSpPr>
        <p:sp>
          <p:nvSpPr>
            <p:cNvPr id="598" name=""/>
            <p:cNvSpPr/>
            <p:nvPr/>
          </p:nvSpPr>
          <p:spPr>
            <a:xfrm flipV="1">
              <a:off x="6783840" y="5846760"/>
              <a:ext cx="224280" cy="42840"/>
            </a:xfrm>
            <a:prstGeom prst="line">
              <a:avLst/>
            </a:prstGeom>
            <a:ln w="7632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23880" y="4762440"/>
              <a:ext cx="5334120" cy="1409760"/>
            </a:xfrm>
            <a:custGeom>
              <a:avLst/>
              <a:gdLst/>
              <a:ahLst/>
              <a:rect l="l" t="t" r="r" b="b"/>
              <a:pathLst>
                <a:path w="3360" h="888">
                  <a:moveTo>
                    <a:pt x="0" y="168"/>
                  </a:moveTo>
                  <a:cubicBezTo>
                    <a:pt x="232" y="84"/>
                    <a:pt x="464" y="0"/>
                    <a:pt x="672" y="72"/>
                  </a:cubicBezTo>
                  <a:cubicBezTo>
                    <a:pt x="880" y="144"/>
                    <a:pt x="1080" y="472"/>
                    <a:pt x="1248" y="600"/>
                  </a:cubicBezTo>
                  <a:cubicBezTo>
                    <a:pt x="1416" y="728"/>
                    <a:pt x="1544" y="792"/>
                    <a:pt x="1680" y="840"/>
                  </a:cubicBezTo>
                  <a:cubicBezTo>
                    <a:pt x="1816" y="888"/>
                    <a:pt x="1872" y="888"/>
                    <a:pt x="2064" y="888"/>
                  </a:cubicBezTo>
                  <a:cubicBezTo>
                    <a:pt x="2256" y="888"/>
                    <a:pt x="2616" y="872"/>
                    <a:pt x="2832" y="840"/>
                  </a:cubicBezTo>
                  <a:cubicBezTo>
                    <a:pt x="3048" y="808"/>
                    <a:pt x="3272" y="720"/>
                    <a:pt x="3360" y="696"/>
                  </a:cubicBezTo>
                </a:path>
              </a:pathLst>
            </a:custGeom>
            <a:noFill/>
            <a:ln w="7632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809280" y="120600"/>
            <a:ext cx="60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Web</a:t>
            </a:r>
            <a:r>
              <a:rPr b="0" lang="ja-JP" sz="3600" spc="-1" strike="noStrike">
                <a:solidFill>
                  <a:srgbClr val="000066"/>
                </a:solidFill>
                <a:latin typeface="Times New Roman"/>
              </a:rPr>
              <a:t>ラッパー単体による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Navigate</a:t>
            </a:r>
            <a:r>
              <a:rPr b="0" lang="ja-JP" sz="3600" spc="-1" strike="noStrike">
                <a:solidFill>
                  <a:srgbClr val="000066"/>
                </a:solidFill>
                <a:latin typeface="Times New Roman"/>
              </a:rPr>
              <a:t>処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133720" y="1295280"/>
            <a:ext cx="3962160" cy="1447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666880" y="1447920"/>
            <a:ext cx="2895840" cy="11430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962520" y="1600200"/>
            <a:ext cx="38088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62520" y="2133720"/>
            <a:ext cx="38088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76920" y="1828800"/>
            <a:ext cx="38088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352680" y="1828440"/>
            <a:ext cx="6098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276720" y="213372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971800" y="1828800"/>
            <a:ext cx="38088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343400" y="1828800"/>
            <a:ext cx="53352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343400" y="2133360"/>
            <a:ext cx="53352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409720" y="2285640"/>
            <a:ext cx="3358440" cy="1227600"/>
            <a:chOff x="5409720" y="2285640"/>
            <a:chExt cx="3358440" cy="1227600"/>
          </a:xfrm>
        </p:grpSpPr>
        <p:sp>
          <p:nvSpPr>
            <p:cNvPr id="612" name=""/>
            <p:cNvSpPr/>
            <p:nvPr/>
          </p:nvSpPr>
          <p:spPr>
            <a:xfrm flipH="1" flipV="1">
              <a:off x="5409720" y="2285640"/>
              <a:ext cx="1219320" cy="76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941520" y="2687760"/>
              <a:ext cx="1826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パス正規表現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基づくオートマト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5791320" y="5334120"/>
            <a:ext cx="2057400" cy="990360"/>
          </a:xfrm>
          <a:prstGeom prst="flowChartMagneticDisk">
            <a:avLst/>
          </a:prstGeom>
          <a:gradFill rotWithShape="0">
            <a:gsLst>
              <a:gs pos="0">
                <a:srgbClr val="739a00"/>
              </a:gs>
              <a:gs pos="50000">
                <a:srgbClr val="99cc00"/>
              </a:gs>
              <a:gs pos="100000">
                <a:srgbClr val="739a00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791320" y="4419720"/>
            <a:ext cx="2133360" cy="685800"/>
          </a:xfrm>
          <a:prstGeom prst="ellipse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85440" y="452268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サー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0" y="5105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368440" y="852480"/>
            <a:ext cx="30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ラッパーオブジェク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600200" y="2742840"/>
            <a:ext cx="5181120" cy="1679400"/>
            <a:chOff x="1600200" y="2742840"/>
            <a:chExt cx="5181120" cy="1679400"/>
          </a:xfrm>
        </p:grpSpPr>
        <p:sp>
          <p:nvSpPr>
            <p:cNvPr id="620" name=""/>
            <p:cNvSpPr/>
            <p:nvPr/>
          </p:nvSpPr>
          <p:spPr>
            <a:xfrm flipV="1">
              <a:off x="1600200" y="2742840"/>
              <a:ext cx="15238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4191120" y="274284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5181120" y="2742840"/>
              <a:ext cx="16002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24200" y="3962520"/>
              <a:ext cx="17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ﾍﾟｰｼﾞ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2286000" y="3123720"/>
              <a:ext cx="838080" cy="838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4419720" y="3200400"/>
              <a:ext cx="0" cy="838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 flipV="1">
              <a:off x="5410080" y="3200040"/>
              <a:ext cx="60984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590920" y="3429000"/>
              <a:ext cx="533160" cy="609480"/>
            </a:xfrm>
            <a:prstGeom prst="foldedCorner">
              <a:avLst>
                <a:gd name="adj" fmla="val 2678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495680" y="3429000"/>
              <a:ext cx="457200" cy="609480"/>
            </a:xfrm>
            <a:prstGeom prst="foldedCorner">
              <a:avLst>
                <a:gd name="adj" fmla="val 2678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34120" y="3581280"/>
              <a:ext cx="533160" cy="609840"/>
            </a:xfrm>
            <a:prstGeom prst="foldedCorner">
              <a:avLst>
                <a:gd name="adj" fmla="val 2678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9360" y="2360520"/>
            <a:ext cx="2428920" cy="1373760"/>
            <a:chOff x="9360" y="2360520"/>
            <a:chExt cx="2428920" cy="1373760"/>
          </a:xfrm>
        </p:grpSpPr>
        <p:sp>
          <p:nvSpPr>
            <p:cNvPr id="631" name=""/>
            <p:cNvSpPr/>
            <p:nvPr/>
          </p:nvSpPr>
          <p:spPr>
            <a:xfrm>
              <a:off x="1676520" y="3276720"/>
              <a:ext cx="76176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360" y="2360520"/>
              <a:ext cx="22564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r>
                <a:rPr b="1" lang="ja-JP" sz="2800" spc="-1" strike="noStrike">
                  <a:solidFill>
                    <a:srgbClr val="000000"/>
                  </a:solidFill>
                  <a:latin typeface="Times New Roman"/>
                </a:rPr>
                <a:t>ﾍﾟｰｼﾞを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r>
                <a:rPr b="1" lang="ja-JP" sz="2800" spc="-1" strike="noStrike">
                  <a:solidFill>
                    <a:srgbClr val="000000"/>
                  </a:solidFill>
                  <a:latin typeface="Times New Roman"/>
                </a:rPr>
                <a:t>ﾗｯﾊﾟｰ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Times New Roman"/>
                </a:rPr>
                <a:t>転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3124080" y="5334120"/>
            <a:ext cx="2057400" cy="990360"/>
          </a:xfrm>
          <a:prstGeom prst="flowChartMagneticDisk">
            <a:avLst/>
          </a:prstGeom>
          <a:gradFill rotWithShape="0">
            <a:gsLst>
              <a:gs pos="0">
                <a:srgbClr val="739a00"/>
              </a:gs>
              <a:gs pos="50000">
                <a:srgbClr val="99cc00"/>
              </a:gs>
              <a:gs pos="100000">
                <a:srgbClr val="739a00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4419720"/>
            <a:ext cx="2133720" cy="685800"/>
          </a:xfrm>
          <a:prstGeom prst="ellipse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418560" y="452268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サー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1120" y="5105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" y="5334120"/>
            <a:ext cx="2057400" cy="990360"/>
          </a:xfrm>
          <a:prstGeom prst="flowChartMagneticDisk">
            <a:avLst/>
          </a:prstGeom>
          <a:gradFill rotWithShape="0">
            <a:gsLst>
              <a:gs pos="0">
                <a:srgbClr val="739a00"/>
              </a:gs>
              <a:gs pos="50000">
                <a:srgbClr val="99cc00"/>
              </a:gs>
              <a:gs pos="100000">
                <a:srgbClr val="739a00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57200" y="4419720"/>
            <a:ext cx="2133720" cy="685800"/>
          </a:xfrm>
          <a:prstGeom prst="ellipse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1320" y="452268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サー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523880" y="5105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5638680" y="685800"/>
            <a:ext cx="2743200" cy="1295280"/>
            <a:chOff x="5638680" y="685800"/>
            <a:chExt cx="2743200" cy="1295280"/>
          </a:xfrm>
        </p:grpSpPr>
        <p:sp>
          <p:nvSpPr>
            <p:cNvPr id="642" name=""/>
            <p:cNvSpPr/>
            <p:nvPr/>
          </p:nvSpPr>
          <p:spPr>
            <a:xfrm>
              <a:off x="7213680" y="6858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パスの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638680" y="1371600"/>
              <a:ext cx="137160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010280" y="1143000"/>
              <a:ext cx="1371600" cy="838080"/>
            </a:xfrm>
            <a:prstGeom prst="flowChartInternalStorag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39320" y="12193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72840" y="12193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772400" y="1143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04720" y="152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66"/>
                </a:solidFill>
                <a:latin typeface="Times New Roman"/>
              </a:rPr>
              <a:t>問題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704240" y="1090440"/>
            <a:ext cx="577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最終的に必要なデータは，パス正規表現を満た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の集合であるにも関わらず，探索上必要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すべてのページ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ラッパーに転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787480"/>
            <a:ext cx="485640" cy="685800"/>
          </a:xfrm>
          <a:prstGeom prst="downArrow">
            <a:avLst>
              <a:gd name="adj1" fmla="val 49676"/>
              <a:gd name="adj2" fmla="val 69300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990160" y="36496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Times New Roman"/>
              </a:rPr>
              <a:t>ページ転送量が膨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591200" y="5334120"/>
            <a:ext cx="588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分散オブジェクトを用いた機構の導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91120" y="4572000"/>
            <a:ext cx="485640" cy="685800"/>
          </a:xfrm>
          <a:prstGeom prst="downArrow">
            <a:avLst>
              <a:gd name="adj1" fmla="val 49676"/>
              <a:gd name="adj2" fmla="val 69300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937800" y="120600"/>
            <a:ext cx="58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66"/>
                </a:solidFill>
                <a:latin typeface="Times New Roman"/>
              </a:rPr>
              <a:t>分散オブジェクトを用いた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Navigate</a:t>
            </a:r>
            <a:r>
              <a:rPr b="0" lang="ja-JP" sz="3600" spc="-1" strike="noStrike">
                <a:solidFill>
                  <a:srgbClr val="000066"/>
                </a:solidFill>
                <a:latin typeface="Times New Roman"/>
              </a:rPr>
              <a:t>処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057400" y="1295280"/>
            <a:ext cx="403848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791320" y="5334120"/>
            <a:ext cx="2057400" cy="990360"/>
          </a:xfrm>
          <a:prstGeom prst="flowChartMagneticDisk">
            <a:avLst/>
          </a:prstGeom>
          <a:gradFill rotWithShape="0">
            <a:gsLst>
              <a:gs pos="0">
                <a:srgbClr val="648500"/>
              </a:gs>
              <a:gs pos="50000">
                <a:srgbClr val="99cc00"/>
              </a:gs>
              <a:gs pos="100000">
                <a:srgbClr val="648500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1320" y="4419720"/>
            <a:ext cx="2133360" cy="685800"/>
          </a:xfrm>
          <a:prstGeom prst="ellipse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087600" y="4522680"/>
            <a:ext cx="14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サー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0" y="5105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493720" y="1447920"/>
            <a:ext cx="31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ラッパーオブジェク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124080" y="5334120"/>
            <a:ext cx="2057400" cy="990360"/>
          </a:xfrm>
          <a:prstGeom prst="flowChartMagneticDisk">
            <a:avLst/>
          </a:prstGeom>
          <a:gradFill rotWithShape="0">
            <a:gsLst>
              <a:gs pos="0">
                <a:srgbClr val="648500"/>
              </a:gs>
              <a:gs pos="50000">
                <a:srgbClr val="99cc00"/>
              </a:gs>
              <a:gs pos="100000">
                <a:srgbClr val="648500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419720"/>
            <a:ext cx="2133720" cy="685800"/>
          </a:xfrm>
          <a:prstGeom prst="ellipse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420720" y="4522680"/>
            <a:ext cx="14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サー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191120" y="5105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7200" y="5334120"/>
            <a:ext cx="2057400" cy="990360"/>
          </a:xfrm>
          <a:prstGeom prst="flowChartMagneticDisk">
            <a:avLst/>
          </a:prstGeom>
          <a:gradFill rotWithShape="0">
            <a:gsLst>
              <a:gs pos="0">
                <a:srgbClr val="648500"/>
              </a:gs>
              <a:gs pos="50000">
                <a:srgbClr val="99cc00"/>
              </a:gs>
              <a:gs pos="100000">
                <a:srgbClr val="648500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57200" y="4419720"/>
            <a:ext cx="2133720" cy="685800"/>
          </a:xfrm>
          <a:prstGeom prst="ellipse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53480" y="4522680"/>
            <a:ext cx="14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サー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523880" y="5105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-1440" y="2797200"/>
            <a:ext cx="7468920" cy="1774800"/>
            <a:chOff x="-1440" y="2797200"/>
            <a:chExt cx="7468920" cy="1774800"/>
          </a:xfrm>
        </p:grpSpPr>
        <p:sp>
          <p:nvSpPr>
            <p:cNvPr id="670" name=""/>
            <p:cNvSpPr/>
            <p:nvPr/>
          </p:nvSpPr>
          <p:spPr>
            <a:xfrm>
              <a:off x="-1440" y="2797200"/>
              <a:ext cx="1925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avigat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オブジェク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800" y="3733920"/>
              <a:ext cx="1447920" cy="83808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808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447920" y="41911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447920" y="3809880"/>
              <a:ext cx="304560" cy="304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1143000" y="3962160"/>
              <a:ext cx="30492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143000" y="4191120"/>
              <a:ext cx="30492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52680" y="3733920"/>
              <a:ext cx="1447920" cy="83808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05320" y="39625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148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14800" y="38098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3809880" y="3962160"/>
              <a:ext cx="30492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09880" y="4191120"/>
              <a:ext cx="30492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019920" y="3733920"/>
              <a:ext cx="1447560" cy="83808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17220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78168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781680" y="38098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6477120" y="3962160"/>
              <a:ext cx="304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477120" y="4191120"/>
              <a:ext cx="304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5943600" y="685800"/>
            <a:ext cx="2362320" cy="1295280"/>
            <a:chOff x="5943600" y="685800"/>
            <a:chExt cx="2362320" cy="1295280"/>
          </a:xfrm>
        </p:grpSpPr>
        <p:sp>
          <p:nvSpPr>
            <p:cNvPr id="690" name=""/>
            <p:cNvSpPr/>
            <p:nvPr/>
          </p:nvSpPr>
          <p:spPr>
            <a:xfrm>
              <a:off x="6934320" y="1143000"/>
              <a:ext cx="1371600" cy="838080"/>
            </a:xfrm>
            <a:prstGeom prst="flowChartInternalStorag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772400" y="1143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37360" y="6858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パスの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62280" y="12193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795800" y="12193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5943600" y="1371240"/>
              <a:ext cx="990720" cy="152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031440" y="8618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800000"/>
                  </a:solidFill>
                  <a:latin typeface="Times New Roman"/>
                </a:rPr>
                <a:t>結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1752480" y="2057040"/>
            <a:ext cx="6310080" cy="1752840"/>
            <a:chOff x="1752480" y="2057040"/>
            <a:chExt cx="6310080" cy="1752840"/>
          </a:xfrm>
        </p:grpSpPr>
        <p:sp>
          <p:nvSpPr>
            <p:cNvPr id="698" name=""/>
            <p:cNvSpPr/>
            <p:nvPr/>
          </p:nvSpPr>
          <p:spPr>
            <a:xfrm flipV="1">
              <a:off x="1752480" y="2057400"/>
              <a:ext cx="121932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4038480" y="2057040"/>
              <a:ext cx="0" cy="16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flipV="1">
              <a:off x="5181480" y="2057040"/>
              <a:ext cx="1447920" cy="16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2209680" y="2590920"/>
              <a:ext cx="533520" cy="761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4191120" y="2514600"/>
              <a:ext cx="0" cy="99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 flipV="1">
              <a:off x="5790960" y="2590920"/>
              <a:ext cx="685800" cy="761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6087600" y="2362320"/>
              <a:ext cx="715320" cy="761760"/>
              <a:chOff x="6087600" y="2362320"/>
              <a:chExt cx="715320" cy="761760"/>
            </a:xfrm>
          </p:grpSpPr>
          <p:sp>
            <p:nvSpPr>
              <p:cNvPr id="705" name=""/>
              <p:cNvSpPr/>
              <p:nvPr/>
            </p:nvSpPr>
            <p:spPr>
              <a:xfrm>
                <a:off x="6140520" y="2362320"/>
                <a:ext cx="609480" cy="76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140520" y="25909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445080" y="2362320"/>
                <a:ext cx="0" cy="76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087600" y="243828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3600" spc="-1" strike="noStrike">
                    <a:solidFill>
                      <a:srgbClr val="000000"/>
                    </a:solidFill>
                    <a:latin typeface="Times New Roman"/>
                  </a:rPr>
                  <a:t>：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347880" y="243828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3600" spc="-1" strike="noStrike">
                    <a:solidFill>
                      <a:srgbClr val="000000"/>
                    </a:solidFill>
                    <a:latin typeface="Times New Roman"/>
                  </a:rPr>
                  <a:t>：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7150320" y="254484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000000"/>
                  </a:solidFill>
                  <a:latin typeface="Times New Roman"/>
                </a:rPr>
                <a:t>部分解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4335120" y="2666880"/>
              <a:ext cx="715320" cy="762120"/>
              <a:chOff x="4335120" y="2666880"/>
              <a:chExt cx="715320" cy="762120"/>
            </a:xfrm>
          </p:grpSpPr>
          <p:sp>
            <p:nvSpPr>
              <p:cNvPr id="712" name=""/>
              <p:cNvSpPr/>
              <p:nvPr/>
            </p:nvSpPr>
            <p:spPr>
              <a:xfrm>
                <a:off x="4387680" y="2666880"/>
                <a:ext cx="609840" cy="762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387680" y="289548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692600" y="266688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335120" y="274320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3600" spc="-1" strike="noStrike">
                    <a:solidFill>
                      <a:srgbClr val="000000"/>
                    </a:solidFill>
                    <a:latin typeface="Times New Roman"/>
                  </a:rPr>
                  <a:t>：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595400" y="274320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3600" spc="-1" strike="noStrike">
                    <a:solidFill>
                      <a:srgbClr val="000000"/>
                    </a:solidFill>
                    <a:latin typeface="Times New Roman"/>
                  </a:rPr>
                  <a:t>：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2341080" y="2971800"/>
              <a:ext cx="715320" cy="762120"/>
              <a:chOff x="2341080" y="2971800"/>
              <a:chExt cx="715320" cy="762120"/>
            </a:xfrm>
          </p:grpSpPr>
          <p:sp>
            <p:nvSpPr>
              <p:cNvPr id="718" name=""/>
              <p:cNvSpPr/>
              <p:nvPr/>
            </p:nvSpPr>
            <p:spPr>
              <a:xfrm>
                <a:off x="2394000" y="2971800"/>
                <a:ext cx="609480" cy="762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394000" y="320040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698920" y="297180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341080" y="304812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3600" spc="-1" strike="noStrike">
                    <a:solidFill>
                      <a:srgbClr val="000000"/>
                    </a:solidFill>
                    <a:latin typeface="Times New Roman"/>
                  </a:rPr>
                  <a:t>：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601360" y="304812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3600" spc="-1" strike="noStrike">
                    <a:solidFill>
                      <a:srgbClr val="000000"/>
                    </a:solidFill>
                    <a:latin typeface="Times New Roman"/>
                  </a:rPr>
                  <a:t>：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819000" y="120600"/>
            <a:ext cx="37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66"/>
                </a:solidFill>
                <a:latin typeface="Times New Roman"/>
              </a:rPr>
              <a:t>オートマトンの作成 ・ 分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6320" y="990720"/>
            <a:ext cx="9296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Ａ    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（    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*     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Ｂ（    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*    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Ｃ 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[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per”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14335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676520" y="14335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3108240" y="1281240"/>
            <a:ext cx="549000" cy="228600"/>
            <a:chOff x="3108240" y="1281240"/>
            <a:chExt cx="549000" cy="228600"/>
          </a:xfrm>
        </p:grpSpPr>
        <p:sp>
          <p:nvSpPr>
            <p:cNvPr id="728" name=""/>
            <p:cNvSpPr/>
            <p:nvPr/>
          </p:nvSpPr>
          <p:spPr>
            <a:xfrm>
              <a:off x="3108240" y="1357560"/>
              <a:ext cx="36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108240" y="1433520"/>
              <a:ext cx="36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474360" y="1281240"/>
              <a:ext cx="182880" cy="228600"/>
            </a:xfrm>
            <a:prstGeom prst="rightArrow">
              <a:avLst>
                <a:gd name="adj1" fmla="val 60130"/>
                <a:gd name="adj2" fmla="val 10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4572000" y="14335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943600" y="14335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990720" y="1905120"/>
            <a:ext cx="6476760" cy="1981080"/>
            <a:chOff x="990720" y="1905120"/>
            <a:chExt cx="6476760" cy="1981080"/>
          </a:xfrm>
        </p:grpSpPr>
        <p:sp>
          <p:nvSpPr>
            <p:cNvPr id="734" name=""/>
            <p:cNvSpPr/>
            <p:nvPr/>
          </p:nvSpPr>
          <p:spPr>
            <a:xfrm>
              <a:off x="3962520" y="1905120"/>
              <a:ext cx="485640" cy="685800"/>
            </a:xfrm>
            <a:prstGeom prst="downArrow">
              <a:avLst>
                <a:gd name="adj1" fmla="val 49676"/>
                <a:gd name="adj2" fmla="val 693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990720" y="2722680"/>
              <a:ext cx="6476760" cy="1163520"/>
              <a:chOff x="990720" y="2722680"/>
              <a:chExt cx="6476760" cy="1163520"/>
            </a:xfrm>
          </p:grpSpPr>
          <p:grpSp>
            <p:nvGrpSpPr>
              <p:cNvPr id="736" name=""/>
              <p:cNvGrpSpPr/>
              <p:nvPr/>
            </p:nvGrpSpPr>
            <p:grpSpPr>
              <a:xfrm>
                <a:off x="2438280" y="3429000"/>
                <a:ext cx="685800" cy="457200"/>
                <a:chOff x="2438280" y="3429000"/>
                <a:chExt cx="685800" cy="45720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2438280" y="3429000"/>
                  <a:ext cx="685800" cy="457200"/>
                </a:xfrm>
                <a:prstGeom prst="ellipse">
                  <a:avLst/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V="1">
                  <a:off x="2521440" y="3481920"/>
                  <a:ext cx="61920" cy="446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5334120" y="3429000"/>
                <a:ext cx="685800" cy="457200"/>
                <a:chOff x="5334120" y="3429000"/>
                <a:chExt cx="685800" cy="45720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5334120" y="3429000"/>
                  <a:ext cx="685800" cy="457200"/>
                </a:xfrm>
                <a:prstGeom prst="ellipse">
                  <a:avLst/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V="1">
                  <a:off x="5417280" y="3481920"/>
                  <a:ext cx="61920" cy="446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2" name=""/>
              <p:cNvSpPr/>
              <p:nvPr/>
            </p:nvSpPr>
            <p:spPr>
              <a:xfrm>
                <a:off x="990720" y="2895480"/>
                <a:ext cx="685800" cy="685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438280" y="2895480"/>
                <a:ext cx="685800" cy="685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886200" y="2895480"/>
                <a:ext cx="685800" cy="685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334120" y="2895480"/>
                <a:ext cx="685800" cy="685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6" name=""/>
              <p:cNvGrpSpPr/>
              <p:nvPr/>
            </p:nvGrpSpPr>
            <p:grpSpPr>
              <a:xfrm>
                <a:off x="6781680" y="2895480"/>
                <a:ext cx="685800" cy="685800"/>
                <a:chOff x="6781680" y="2895480"/>
                <a:chExt cx="685800" cy="68580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6781680" y="2895480"/>
                  <a:ext cx="685800" cy="6858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6858000" y="2971800"/>
                  <a:ext cx="533160" cy="53316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9" name=""/>
              <p:cNvSpPr/>
              <p:nvPr/>
            </p:nvSpPr>
            <p:spPr>
              <a:xfrm>
                <a:off x="6882840" y="286704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676520" y="3276720"/>
                <a:ext cx="761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572000" y="3276720"/>
                <a:ext cx="762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019920" y="3276720"/>
                <a:ext cx="761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953320" y="272268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pap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4" name=""/>
              <p:cNvGrpSpPr/>
              <p:nvPr/>
            </p:nvGrpSpPr>
            <p:grpSpPr>
              <a:xfrm>
                <a:off x="3124080" y="3124080"/>
                <a:ext cx="762120" cy="228600"/>
                <a:chOff x="3124080" y="3124080"/>
                <a:chExt cx="762120" cy="22860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3124080" y="3200400"/>
                  <a:ext cx="685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124080" y="3276360"/>
                  <a:ext cx="685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703680" y="3124080"/>
                  <a:ext cx="182520" cy="228600"/>
                </a:xfrm>
                <a:prstGeom prst="rightArrow">
                  <a:avLst>
                    <a:gd name="adj1" fmla="val 60130"/>
                    <a:gd name="adj2" fmla="val 10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58" name=""/>
          <p:cNvGrpSpPr/>
          <p:nvPr/>
        </p:nvGrpSpPr>
        <p:grpSpPr>
          <a:xfrm>
            <a:off x="3124080" y="3124080"/>
            <a:ext cx="762120" cy="228600"/>
            <a:chOff x="3124080" y="3124080"/>
            <a:chExt cx="762120" cy="228600"/>
          </a:xfrm>
        </p:grpSpPr>
        <p:sp>
          <p:nvSpPr>
            <p:cNvPr id="759" name=""/>
            <p:cNvSpPr/>
            <p:nvPr/>
          </p:nvSpPr>
          <p:spPr>
            <a:xfrm>
              <a:off x="3124080" y="320040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124080" y="327636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703680" y="3124080"/>
              <a:ext cx="182520" cy="228600"/>
            </a:xfrm>
            <a:prstGeom prst="rightArrow">
              <a:avLst>
                <a:gd name="adj1" fmla="val 60130"/>
                <a:gd name="adj2" fmla="val 10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380880" y="3961440"/>
            <a:ext cx="7925040" cy="2134440"/>
            <a:chOff x="380880" y="3961440"/>
            <a:chExt cx="7925040" cy="2134440"/>
          </a:xfrm>
        </p:grpSpPr>
        <p:grpSp>
          <p:nvGrpSpPr>
            <p:cNvPr id="763" name=""/>
            <p:cNvGrpSpPr/>
            <p:nvPr/>
          </p:nvGrpSpPr>
          <p:grpSpPr>
            <a:xfrm>
              <a:off x="380880" y="3961440"/>
              <a:ext cx="7925040" cy="2134440"/>
              <a:chOff x="380880" y="3961440"/>
              <a:chExt cx="7925040" cy="213444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4724280" y="4932360"/>
                <a:ext cx="3581640" cy="1163520"/>
                <a:chOff x="4724280" y="4932360"/>
                <a:chExt cx="3581640" cy="1163520"/>
              </a:xfrm>
            </p:grpSpPr>
            <p:grpSp>
              <p:nvGrpSpPr>
                <p:cNvPr id="765" name=""/>
                <p:cNvGrpSpPr/>
                <p:nvPr/>
              </p:nvGrpSpPr>
              <p:grpSpPr>
                <a:xfrm>
                  <a:off x="6172200" y="5638680"/>
                  <a:ext cx="685800" cy="457200"/>
                  <a:chOff x="6172200" y="5638680"/>
                  <a:chExt cx="685800" cy="457200"/>
                </a:xfrm>
              </p:grpSpPr>
              <p:sp>
                <p:nvSpPr>
                  <p:cNvPr id="766" name=""/>
                  <p:cNvSpPr/>
                  <p:nvPr/>
                </p:nvSpPr>
                <p:spPr>
                  <a:xfrm>
                    <a:off x="6172200" y="5638680"/>
                    <a:ext cx="685800" cy="457200"/>
                  </a:xfrm>
                  <a:prstGeom prst="ellipse">
                    <a:avLst/>
                  </a:prstGeom>
                  <a:noFill/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flipV="1">
                    <a:off x="6255360" y="5691600"/>
                    <a:ext cx="61920" cy="446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8" name=""/>
                <p:cNvSpPr/>
                <p:nvPr/>
              </p:nvSpPr>
              <p:spPr>
                <a:xfrm>
                  <a:off x="4724280" y="5105520"/>
                  <a:ext cx="685800" cy="6858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ＭＳ ゴシック"/>
                      <a:ea typeface="ＭＳ ゴシック"/>
                    </a:rPr>
                    <a:t>B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6172200" y="5105520"/>
                  <a:ext cx="685800" cy="6858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3600" spc="-1" strike="noStrike">
                      <a:solidFill>
                        <a:srgbClr val="000000"/>
                      </a:solidFill>
                      <a:latin typeface="ＭＳ ゴシック"/>
                      <a:ea typeface="ＭＳ ゴシック"/>
                    </a:rPr>
                    <a:t>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0" name=""/>
                <p:cNvGrpSpPr/>
                <p:nvPr/>
              </p:nvGrpSpPr>
              <p:grpSpPr>
                <a:xfrm>
                  <a:off x="7620120" y="5105520"/>
                  <a:ext cx="685800" cy="685800"/>
                  <a:chOff x="7620120" y="5105520"/>
                  <a:chExt cx="685800" cy="685800"/>
                </a:xfrm>
              </p:grpSpPr>
              <p:sp>
                <p:nvSpPr>
                  <p:cNvPr id="771" name=""/>
                  <p:cNvSpPr/>
                  <p:nvPr/>
                </p:nvSpPr>
                <p:spPr>
                  <a:xfrm>
                    <a:off x="7620120" y="5105520"/>
                    <a:ext cx="685800" cy="685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7696440" y="5181840"/>
                    <a:ext cx="533160" cy="533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3" name=""/>
                <p:cNvSpPr/>
                <p:nvPr/>
              </p:nvSpPr>
              <p:spPr>
                <a:xfrm>
                  <a:off x="7721280" y="5076720"/>
                  <a:ext cx="455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ＭＳ ゴシック"/>
                      <a:ea typeface="ＭＳ ゴシック"/>
                    </a:rPr>
                    <a:t>C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410080" y="5486400"/>
                  <a:ext cx="7621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6858000" y="5486400"/>
                  <a:ext cx="7621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6791400" y="4932360"/>
                  <a:ext cx="1095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ＭＳ ゴシック"/>
                      <a:ea typeface="ＭＳ ゴシック"/>
                    </a:rPr>
                    <a:t>pape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7" name=""/>
              <p:cNvSpPr/>
              <p:nvPr/>
            </p:nvSpPr>
            <p:spPr>
              <a:xfrm rot="2170200">
                <a:off x="2742840" y="4038480"/>
                <a:ext cx="485640" cy="685800"/>
              </a:xfrm>
              <a:prstGeom prst="downArrow">
                <a:avLst>
                  <a:gd name="adj1" fmla="val 49676"/>
                  <a:gd name="adj2" fmla="val 693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19227600">
                <a:off x="5181120" y="4038480"/>
                <a:ext cx="486000" cy="685800"/>
              </a:xfrm>
              <a:prstGeom prst="downArrow">
                <a:avLst>
                  <a:gd name="adj1" fmla="val 49676"/>
                  <a:gd name="adj2" fmla="val 6924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9" name=""/>
              <p:cNvGrpSpPr/>
              <p:nvPr/>
            </p:nvGrpSpPr>
            <p:grpSpPr>
              <a:xfrm>
                <a:off x="380880" y="5076720"/>
                <a:ext cx="3581640" cy="1019160"/>
                <a:chOff x="380880" y="5076720"/>
                <a:chExt cx="3581640" cy="1019160"/>
              </a:xfrm>
            </p:grpSpPr>
            <p:grpSp>
              <p:nvGrpSpPr>
                <p:cNvPr id="780" name=""/>
                <p:cNvGrpSpPr/>
                <p:nvPr/>
              </p:nvGrpSpPr>
              <p:grpSpPr>
                <a:xfrm>
                  <a:off x="1828800" y="5638680"/>
                  <a:ext cx="685800" cy="457200"/>
                  <a:chOff x="1828800" y="5638680"/>
                  <a:chExt cx="685800" cy="457200"/>
                </a:xfrm>
              </p:grpSpPr>
              <p:sp>
                <p:nvSpPr>
                  <p:cNvPr id="781" name=""/>
                  <p:cNvSpPr/>
                  <p:nvPr/>
                </p:nvSpPr>
                <p:spPr>
                  <a:xfrm>
                    <a:off x="1828800" y="5638680"/>
                    <a:ext cx="685800" cy="457200"/>
                  </a:xfrm>
                  <a:prstGeom prst="ellipse">
                    <a:avLst/>
                  </a:prstGeom>
                  <a:noFill/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flipV="1">
                    <a:off x="1911960" y="5691600"/>
                    <a:ext cx="61920" cy="446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3" name=""/>
                <p:cNvSpPr/>
                <p:nvPr/>
              </p:nvSpPr>
              <p:spPr>
                <a:xfrm>
                  <a:off x="380880" y="5105520"/>
                  <a:ext cx="685800" cy="6858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ＭＳ ゴシック"/>
                      <a:ea typeface="ＭＳ ゴシック"/>
                    </a:rPr>
                    <a:t>A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828800" y="5105520"/>
                  <a:ext cx="685800" cy="6858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3600" spc="-1" strike="noStrike">
                      <a:solidFill>
                        <a:srgbClr val="000000"/>
                      </a:solidFill>
                      <a:latin typeface="ＭＳ ゴシック"/>
                      <a:ea typeface="ＭＳ ゴシック"/>
                    </a:rPr>
                    <a:t>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066680" y="5486400"/>
                  <a:ext cx="7621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6" name=""/>
                <p:cNvGrpSpPr/>
                <p:nvPr/>
              </p:nvGrpSpPr>
              <p:grpSpPr>
                <a:xfrm>
                  <a:off x="2514600" y="5334120"/>
                  <a:ext cx="762120" cy="228600"/>
                  <a:chOff x="2514600" y="5334120"/>
                  <a:chExt cx="762120" cy="22860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>
                    <a:off x="2514600" y="541044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2514600" y="548640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3094200" y="5334120"/>
                    <a:ext cx="182520" cy="228600"/>
                  </a:xfrm>
                  <a:prstGeom prst="rightArrow">
                    <a:avLst>
                      <a:gd name="adj1" fmla="val 60130"/>
                      <a:gd name="adj2" fmla="val 10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0" name=""/>
                <p:cNvGrpSpPr/>
                <p:nvPr/>
              </p:nvGrpSpPr>
              <p:grpSpPr>
                <a:xfrm>
                  <a:off x="3276720" y="5105520"/>
                  <a:ext cx="685800" cy="685800"/>
                  <a:chOff x="3276720" y="5105520"/>
                  <a:chExt cx="685800" cy="685800"/>
                </a:xfrm>
              </p:grpSpPr>
              <p:sp>
                <p:nvSpPr>
                  <p:cNvPr id="791" name=""/>
                  <p:cNvSpPr/>
                  <p:nvPr/>
                </p:nvSpPr>
                <p:spPr>
                  <a:xfrm>
                    <a:off x="3276720" y="5105520"/>
                    <a:ext cx="685800" cy="685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3353040" y="5181840"/>
                    <a:ext cx="533160" cy="533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3" name=""/>
                <p:cNvSpPr/>
                <p:nvPr/>
              </p:nvSpPr>
              <p:spPr>
                <a:xfrm>
                  <a:off x="3377880" y="5076720"/>
                  <a:ext cx="455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ＭＳ ゴシック"/>
                      <a:ea typeface="ＭＳ ゴシック"/>
                    </a:rPr>
                    <a:t>B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4" name=""/>
            <p:cNvSpPr/>
            <p:nvPr/>
          </p:nvSpPr>
          <p:spPr>
            <a:xfrm>
              <a:off x="3921480" y="40384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800000"/>
                  </a:solidFill>
                  <a:latin typeface="ＭＳ ゴシック"/>
                  <a:ea typeface="ＭＳ ゴシック"/>
                </a:rPr>
                <a:t>分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7238880" y="4114800"/>
            <a:ext cx="1828800" cy="27432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743200"/>
              <a:gd name="textAreaBottom" fmla="*/ 2653920 h 2743200"/>
            </a:gdLst>
            <a:ahLst/>
            <a:rect l="textAreaLeft" t="textAreaTop" r="textAreaRight" b="textAreaBottom"/>
            <a:pathLst>
              <a:path w="21600" h="32398">
                <a:moveTo>
                  <a:pt x="3600" y="0"/>
                </a:moveTo>
                <a:arcTo wR="3600" hR="3600" stAng="16200000" swAng="-5400000"/>
                <a:lnTo>
                  <a:pt x="0" y="28798"/>
                </a:lnTo>
                <a:arcTo wR="3600" hR="3600" stAng="10800000" swAng="-5400000"/>
                <a:lnTo>
                  <a:pt x="18000" y="32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86200" y="4068720"/>
            <a:ext cx="2971800" cy="27892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4038480"/>
            <a:ext cx="2971800" cy="2819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22480" y="-31680"/>
            <a:ext cx="27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Navigate</a:t>
            </a:r>
            <a:r>
              <a:rPr b="0" lang="ja-JP" sz="3600" spc="-1" strike="noStrike">
                <a:solidFill>
                  <a:srgbClr val="000066"/>
                </a:solidFill>
                <a:latin typeface="Times New Roman"/>
              </a:rPr>
              <a:t>処理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2057400" y="685800"/>
            <a:ext cx="4038480" cy="685800"/>
            <a:chOff x="2057400" y="685800"/>
            <a:chExt cx="4038480" cy="685800"/>
          </a:xfrm>
        </p:grpSpPr>
        <p:sp>
          <p:nvSpPr>
            <p:cNvPr id="800" name=""/>
            <p:cNvSpPr/>
            <p:nvPr/>
          </p:nvSpPr>
          <p:spPr>
            <a:xfrm>
              <a:off x="2057400" y="685800"/>
              <a:ext cx="4038480" cy="6858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485800" y="762120"/>
              <a:ext cx="3070440" cy="520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r>
                <a:rPr b="0" lang="ja-JP" sz="2800" spc="-1" strike="noStrike">
                  <a:solidFill>
                    <a:srgbClr val="000000"/>
                  </a:solidFill>
                  <a:latin typeface="Times New Roman"/>
                </a:rPr>
                <a:t>ラッパーオブジェク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304920" y="55483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800" y="51674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77960" y="5167440"/>
            <a:ext cx="914400" cy="914400"/>
          </a:xfrm>
          <a:prstGeom prst="foldedCorner">
            <a:avLst>
              <a:gd name="adj" fmla="val 1805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084320" y="50594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084320" y="54720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1447920" y="5105520"/>
            <a:ext cx="4572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447920" y="5867280"/>
            <a:ext cx="45720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87600" y="472428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905120" y="4481640"/>
            <a:ext cx="914400" cy="914400"/>
          </a:xfrm>
          <a:prstGeom prst="foldedCorner">
            <a:avLst>
              <a:gd name="adj" fmla="val 1805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179800" y="4449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211480" y="47862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364040" y="43434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1830600" y="5424480"/>
            <a:ext cx="998280" cy="1356840"/>
            <a:chOff x="1830600" y="5424480"/>
            <a:chExt cx="998280" cy="1356840"/>
          </a:xfrm>
        </p:grpSpPr>
        <p:sp>
          <p:nvSpPr>
            <p:cNvPr id="815" name=""/>
            <p:cNvSpPr/>
            <p:nvPr/>
          </p:nvSpPr>
          <p:spPr>
            <a:xfrm>
              <a:off x="1914480" y="5867280"/>
              <a:ext cx="914400" cy="914040"/>
            </a:xfrm>
            <a:prstGeom prst="foldedCorner">
              <a:avLst>
                <a:gd name="adj" fmla="val 18055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221200" y="59432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830600" y="5424480"/>
              <a:ext cx="61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U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250200" y="6330960"/>
            <a:ext cx="10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サー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191120" y="5211720"/>
            <a:ext cx="914400" cy="884160"/>
          </a:xfrm>
          <a:prstGeom prst="foldedCorner">
            <a:avLst>
              <a:gd name="adj" fmla="val 1805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97480" y="50277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497480" y="5486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4120" y="5897520"/>
            <a:ext cx="914400" cy="884160"/>
          </a:xfrm>
          <a:prstGeom prst="foldedCorner">
            <a:avLst>
              <a:gd name="adj" fmla="val 1805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334120" y="4602240"/>
            <a:ext cx="914400" cy="884160"/>
          </a:xfrm>
          <a:prstGeom prst="foldedCorner">
            <a:avLst>
              <a:gd name="adj" fmla="val 1805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56080" y="4830840"/>
            <a:ext cx="762120" cy="380880"/>
          </a:xfrm>
          <a:prstGeom prst="roundRect">
            <a:avLst>
              <a:gd name="adj" fmla="val 4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334840" y="47545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4876920" y="4983120"/>
            <a:ext cx="457200" cy="426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876920" y="5867280"/>
            <a:ext cx="457200" cy="411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16600" y="475452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250320" y="4449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250320" y="57452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128840" y="630252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サー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473960" y="4329000"/>
            <a:ext cx="914400" cy="884520"/>
          </a:xfrm>
          <a:prstGeom prst="foldedCorner">
            <a:avLst>
              <a:gd name="adj" fmla="val 1805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768080" y="4343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467480" y="5486400"/>
            <a:ext cx="914400" cy="884160"/>
          </a:xfrm>
          <a:prstGeom prst="foldedCorner">
            <a:avLst>
              <a:gd name="adj" fmla="val 180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489800" y="5715000"/>
            <a:ext cx="762120" cy="380880"/>
          </a:xfrm>
          <a:prstGeom prst="roundRect">
            <a:avLst>
              <a:gd name="adj" fmla="val 4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468200" y="563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924680" y="49528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383680" y="419112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383680" y="533412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656120" y="6338880"/>
            <a:ext cx="10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サー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2590920" y="4648320"/>
            <a:ext cx="685800" cy="228600"/>
            <a:chOff x="2590920" y="4648320"/>
            <a:chExt cx="685800" cy="228600"/>
          </a:xfrm>
        </p:grpSpPr>
        <p:sp>
          <p:nvSpPr>
            <p:cNvPr id="842" name=""/>
            <p:cNvSpPr/>
            <p:nvPr/>
          </p:nvSpPr>
          <p:spPr>
            <a:xfrm>
              <a:off x="2590920" y="4724280"/>
              <a:ext cx="59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590920" y="4800600"/>
              <a:ext cx="59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48120" y="4648320"/>
              <a:ext cx="228600" cy="228600"/>
            </a:xfrm>
            <a:prstGeom prst="rightArrow">
              <a:avLst>
                <a:gd name="adj1" fmla="val 60130"/>
                <a:gd name="adj2" fmla="val 10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2590920" y="5029200"/>
            <a:ext cx="685800" cy="228600"/>
            <a:chOff x="2590920" y="5029200"/>
            <a:chExt cx="685800" cy="228600"/>
          </a:xfrm>
        </p:grpSpPr>
        <p:sp>
          <p:nvSpPr>
            <p:cNvPr id="846" name=""/>
            <p:cNvSpPr/>
            <p:nvPr/>
          </p:nvSpPr>
          <p:spPr>
            <a:xfrm>
              <a:off x="2590920" y="5105160"/>
              <a:ext cx="59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590920" y="5181480"/>
              <a:ext cx="59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048120" y="5029200"/>
              <a:ext cx="228600" cy="228600"/>
            </a:xfrm>
            <a:prstGeom prst="rightArrow">
              <a:avLst>
                <a:gd name="adj1" fmla="val 60130"/>
                <a:gd name="adj2" fmla="val 10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2590920" y="6172200"/>
            <a:ext cx="685800" cy="228600"/>
            <a:chOff x="2590920" y="6172200"/>
            <a:chExt cx="685800" cy="228600"/>
          </a:xfrm>
        </p:grpSpPr>
        <p:sp>
          <p:nvSpPr>
            <p:cNvPr id="850" name=""/>
            <p:cNvSpPr/>
            <p:nvPr/>
          </p:nvSpPr>
          <p:spPr>
            <a:xfrm>
              <a:off x="2590920" y="6248160"/>
              <a:ext cx="59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590920" y="6324480"/>
              <a:ext cx="59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048120" y="6172200"/>
              <a:ext cx="228600" cy="228600"/>
            </a:xfrm>
            <a:prstGeom prst="rightArrow">
              <a:avLst>
                <a:gd name="adj1" fmla="val 60130"/>
                <a:gd name="adj2" fmla="val 10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3202200" y="449568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202200" y="495288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192840" y="601992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3733920" y="3352680"/>
            <a:ext cx="2438280" cy="914400"/>
            <a:chOff x="3733920" y="3352680"/>
            <a:chExt cx="2438280" cy="914400"/>
          </a:xfrm>
        </p:grpSpPr>
        <p:sp>
          <p:nvSpPr>
            <p:cNvPr id="857" name=""/>
            <p:cNvSpPr/>
            <p:nvPr/>
          </p:nvSpPr>
          <p:spPr>
            <a:xfrm>
              <a:off x="3733920" y="3352680"/>
              <a:ext cx="2438280" cy="91440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3886200" y="3429000"/>
              <a:ext cx="2209320" cy="765000"/>
              <a:chOff x="3886200" y="3429000"/>
              <a:chExt cx="2209320" cy="76500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4779720" y="3919320"/>
                <a:ext cx="421920" cy="274680"/>
                <a:chOff x="4779720" y="3919320"/>
                <a:chExt cx="421920" cy="27468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4779720" y="3919320"/>
                  <a:ext cx="421920" cy="2746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flipV="1">
                  <a:off x="4830480" y="3950640"/>
                  <a:ext cx="38160" cy="27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2" name=""/>
              <p:cNvSpPr/>
              <p:nvPr/>
            </p:nvSpPr>
            <p:spPr>
              <a:xfrm>
                <a:off x="3886200" y="3600360"/>
                <a:ext cx="423720" cy="411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779720" y="3600360"/>
                <a:ext cx="421920" cy="411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4" name=""/>
              <p:cNvGrpSpPr/>
              <p:nvPr/>
            </p:nvGrpSpPr>
            <p:grpSpPr>
              <a:xfrm>
                <a:off x="5671800" y="3600360"/>
                <a:ext cx="423720" cy="411120"/>
                <a:chOff x="5671800" y="3600360"/>
                <a:chExt cx="423720" cy="41112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5671800" y="3600360"/>
                  <a:ext cx="423720" cy="4111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5718960" y="3646080"/>
                  <a:ext cx="329400" cy="3196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7" name=""/>
              <p:cNvSpPr/>
              <p:nvPr/>
            </p:nvSpPr>
            <p:spPr>
              <a:xfrm>
                <a:off x="5710320" y="35845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309920" y="3828960"/>
                <a:ext cx="469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202000" y="3828960"/>
                <a:ext cx="469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106240" y="3429000"/>
                <a:ext cx="68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ap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1" name=""/>
          <p:cNvGrpSpPr/>
          <p:nvPr/>
        </p:nvGrpSpPr>
        <p:grpSpPr>
          <a:xfrm>
            <a:off x="6705720" y="3352680"/>
            <a:ext cx="2438280" cy="914400"/>
            <a:chOff x="6705720" y="3352680"/>
            <a:chExt cx="2438280" cy="914400"/>
          </a:xfrm>
        </p:grpSpPr>
        <p:sp>
          <p:nvSpPr>
            <p:cNvPr id="872" name=""/>
            <p:cNvSpPr/>
            <p:nvPr/>
          </p:nvSpPr>
          <p:spPr>
            <a:xfrm>
              <a:off x="6705720" y="3352680"/>
              <a:ext cx="2438280" cy="91440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6858000" y="3429000"/>
              <a:ext cx="2209320" cy="765000"/>
              <a:chOff x="6858000" y="3429000"/>
              <a:chExt cx="2209320" cy="765000"/>
            </a:xfrm>
          </p:grpSpPr>
          <p:grpSp>
            <p:nvGrpSpPr>
              <p:cNvPr id="874" name=""/>
              <p:cNvGrpSpPr/>
              <p:nvPr/>
            </p:nvGrpSpPr>
            <p:grpSpPr>
              <a:xfrm>
                <a:off x="7751520" y="3919320"/>
                <a:ext cx="421920" cy="274680"/>
                <a:chOff x="7751520" y="3919320"/>
                <a:chExt cx="421920" cy="27468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7751520" y="3919320"/>
                  <a:ext cx="421920" cy="2746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V="1">
                  <a:off x="7802280" y="3950640"/>
                  <a:ext cx="38160" cy="27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7" name=""/>
              <p:cNvSpPr/>
              <p:nvPr/>
            </p:nvSpPr>
            <p:spPr>
              <a:xfrm>
                <a:off x="6858000" y="3600360"/>
                <a:ext cx="423720" cy="411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751520" y="3600360"/>
                <a:ext cx="421920" cy="411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9" name=""/>
              <p:cNvGrpSpPr/>
              <p:nvPr/>
            </p:nvGrpSpPr>
            <p:grpSpPr>
              <a:xfrm>
                <a:off x="8643600" y="3600360"/>
                <a:ext cx="423720" cy="411120"/>
                <a:chOff x="8643600" y="3600360"/>
                <a:chExt cx="423720" cy="41112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8643600" y="3600360"/>
                  <a:ext cx="423720" cy="4111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8690760" y="3646080"/>
                  <a:ext cx="329400" cy="3196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2" name=""/>
              <p:cNvSpPr/>
              <p:nvPr/>
            </p:nvSpPr>
            <p:spPr>
              <a:xfrm>
                <a:off x="8682120" y="35845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281720" y="3828960"/>
                <a:ext cx="469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173800" y="3828960"/>
                <a:ext cx="469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078040" y="3429000"/>
                <a:ext cx="68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ap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6" name=""/>
          <p:cNvSpPr/>
          <p:nvPr/>
        </p:nvSpPr>
        <p:spPr>
          <a:xfrm>
            <a:off x="141480" y="2514600"/>
            <a:ext cx="140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228600" y="3352680"/>
            <a:ext cx="2438280" cy="914400"/>
            <a:chOff x="228600" y="3352680"/>
            <a:chExt cx="2438280" cy="914400"/>
          </a:xfrm>
        </p:grpSpPr>
        <p:sp>
          <p:nvSpPr>
            <p:cNvPr id="888" name=""/>
            <p:cNvSpPr/>
            <p:nvPr/>
          </p:nvSpPr>
          <p:spPr>
            <a:xfrm>
              <a:off x="228600" y="3352680"/>
              <a:ext cx="2438280" cy="91440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380880" y="3556080"/>
              <a:ext cx="2138040" cy="635040"/>
              <a:chOff x="380880" y="3556080"/>
              <a:chExt cx="2138040" cy="635040"/>
            </a:xfrm>
          </p:grpSpPr>
          <p:grpSp>
            <p:nvGrpSpPr>
              <p:cNvPr id="890" name=""/>
              <p:cNvGrpSpPr/>
              <p:nvPr/>
            </p:nvGrpSpPr>
            <p:grpSpPr>
              <a:xfrm>
                <a:off x="1243080" y="3910320"/>
                <a:ext cx="409680" cy="280800"/>
                <a:chOff x="1243080" y="3910320"/>
                <a:chExt cx="409680" cy="28080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1243080" y="3910320"/>
                  <a:ext cx="409680" cy="280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V="1">
                  <a:off x="1292760" y="3943080"/>
                  <a:ext cx="36720" cy="26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3" name=""/>
              <p:cNvSpPr/>
              <p:nvPr/>
            </p:nvSpPr>
            <p:spPr>
              <a:xfrm>
                <a:off x="380880" y="3581640"/>
                <a:ext cx="408240" cy="42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243080" y="3581640"/>
                <a:ext cx="409680" cy="42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89120" y="3816720"/>
                <a:ext cx="453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6" name=""/>
              <p:cNvGrpSpPr/>
              <p:nvPr/>
            </p:nvGrpSpPr>
            <p:grpSpPr>
              <a:xfrm>
                <a:off x="1652760" y="3722760"/>
                <a:ext cx="453960" cy="140040"/>
                <a:chOff x="1652760" y="3722760"/>
                <a:chExt cx="453960" cy="140040"/>
              </a:xfrm>
            </p:grpSpPr>
            <p:sp>
              <p:nvSpPr>
                <p:cNvPr id="897" name=""/>
                <p:cNvSpPr/>
                <p:nvPr/>
              </p:nvSpPr>
              <p:spPr>
                <a:xfrm>
                  <a:off x="1652760" y="3769560"/>
                  <a:ext cx="408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1652760" y="3816000"/>
                  <a:ext cx="408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1998000" y="3722760"/>
                  <a:ext cx="108720" cy="140040"/>
                </a:xfrm>
                <a:prstGeom prst="rightArrow">
                  <a:avLst>
                    <a:gd name="adj1" fmla="val 60130"/>
                    <a:gd name="adj2" fmla="val 10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0" name=""/>
              <p:cNvGrpSpPr/>
              <p:nvPr/>
            </p:nvGrpSpPr>
            <p:grpSpPr>
              <a:xfrm>
                <a:off x="2106720" y="3581640"/>
                <a:ext cx="407880" cy="422280"/>
                <a:chOff x="2106720" y="3581640"/>
                <a:chExt cx="407880" cy="42228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2106720" y="3581640"/>
                  <a:ext cx="407880" cy="42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2152080" y="3628440"/>
                  <a:ext cx="317160" cy="3283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3" name=""/>
              <p:cNvSpPr/>
              <p:nvPr/>
            </p:nvSpPr>
            <p:spPr>
              <a:xfrm>
                <a:off x="2135520" y="35560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4" name=""/>
          <p:cNvGrpSpPr/>
          <p:nvPr/>
        </p:nvGrpSpPr>
        <p:grpSpPr>
          <a:xfrm>
            <a:off x="1828800" y="1371600"/>
            <a:ext cx="1828440" cy="1981080"/>
            <a:chOff x="1828800" y="1371600"/>
            <a:chExt cx="1828440" cy="1981080"/>
          </a:xfrm>
        </p:grpSpPr>
        <p:sp>
          <p:nvSpPr>
            <p:cNvPr id="905" name=""/>
            <p:cNvSpPr/>
            <p:nvPr/>
          </p:nvSpPr>
          <p:spPr>
            <a:xfrm flipH="1">
              <a:off x="1828800" y="1371600"/>
              <a:ext cx="91440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57400" y="2057400"/>
              <a:ext cx="762120" cy="685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U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27880" y="16002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Times New Roman"/>
                </a:rPr>
                <a:t>生成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1800" y="4343400"/>
            <a:ext cx="3815640" cy="1738440"/>
            <a:chOff x="1800" y="4343400"/>
            <a:chExt cx="3815640" cy="1738440"/>
          </a:xfrm>
        </p:grpSpPr>
        <p:sp>
          <p:nvSpPr>
            <p:cNvPr id="909" name=""/>
            <p:cNvSpPr/>
            <p:nvPr/>
          </p:nvSpPr>
          <p:spPr>
            <a:xfrm>
              <a:off x="304920" y="554832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800" y="516744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77960" y="5167440"/>
              <a:ext cx="914400" cy="914400"/>
            </a:xfrm>
            <a:prstGeom prst="foldedCorner">
              <a:avLst>
                <a:gd name="adj" fmla="val 18055"/>
              </a:avLst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84320" y="50594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1447920" y="5105520"/>
              <a:ext cx="45720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87600" y="4724280"/>
              <a:ext cx="61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U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905120" y="4481640"/>
              <a:ext cx="914400" cy="914400"/>
            </a:xfrm>
            <a:prstGeom prst="foldedCorner">
              <a:avLst>
                <a:gd name="adj" fmla="val 18055"/>
              </a:avLst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179800" y="4449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364040" y="4343400"/>
              <a:ext cx="61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U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2590920" y="4648320"/>
              <a:ext cx="685800" cy="228600"/>
              <a:chOff x="2590920" y="4648320"/>
              <a:chExt cx="685800" cy="228600"/>
            </a:xfrm>
          </p:grpSpPr>
          <p:sp>
            <p:nvSpPr>
              <p:cNvPr id="919" name=""/>
              <p:cNvSpPr/>
              <p:nvPr/>
            </p:nvSpPr>
            <p:spPr>
              <a:xfrm>
                <a:off x="2590920" y="4724280"/>
                <a:ext cx="593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590920" y="4800600"/>
                <a:ext cx="593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048120" y="4648320"/>
                <a:ext cx="228600" cy="228600"/>
              </a:xfrm>
              <a:prstGeom prst="rightArrow">
                <a:avLst>
                  <a:gd name="adj1" fmla="val 60130"/>
                  <a:gd name="adj2" fmla="val 100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2" name=""/>
            <p:cNvSpPr/>
            <p:nvPr/>
          </p:nvSpPr>
          <p:spPr>
            <a:xfrm>
              <a:off x="3202200" y="4495680"/>
              <a:ext cx="61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U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1828800" y="1371600"/>
            <a:ext cx="990720" cy="1981080"/>
            <a:chOff x="1828800" y="1371600"/>
            <a:chExt cx="990720" cy="1981080"/>
          </a:xfrm>
        </p:grpSpPr>
        <p:sp>
          <p:nvSpPr>
            <p:cNvPr id="924" name=""/>
            <p:cNvSpPr/>
            <p:nvPr/>
          </p:nvSpPr>
          <p:spPr>
            <a:xfrm flipH="1">
              <a:off x="1828800" y="1371600"/>
              <a:ext cx="91440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057400" y="2057400"/>
              <a:ext cx="762120" cy="685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U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3962520" y="1371240"/>
            <a:ext cx="1675800" cy="1981080"/>
            <a:chOff x="3962520" y="1371240"/>
            <a:chExt cx="1675800" cy="1981080"/>
          </a:xfrm>
        </p:grpSpPr>
        <p:sp>
          <p:nvSpPr>
            <p:cNvPr id="927" name=""/>
            <p:cNvSpPr/>
            <p:nvPr/>
          </p:nvSpPr>
          <p:spPr>
            <a:xfrm flipH="1" flipV="1">
              <a:off x="4114800" y="1371240"/>
              <a:ext cx="53352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962520" y="2057400"/>
              <a:ext cx="761760" cy="685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U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908960" y="20574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Times New Roman"/>
                </a:rPr>
                <a:t>生成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1800" y="4343400"/>
            <a:ext cx="3815640" cy="1738080"/>
            <a:chOff x="1800" y="4343400"/>
            <a:chExt cx="3815640" cy="1738080"/>
          </a:xfrm>
        </p:grpSpPr>
        <p:sp>
          <p:nvSpPr>
            <p:cNvPr id="931" name=""/>
            <p:cNvSpPr/>
            <p:nvPr/>
          </p:nvSpPr>
          <p:spPr>
            <a:xfrm>
              <a:off x="2211480" y="47862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04560" y="554832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800" y="516708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77600" y="5167080"/>
              <a:ext cx="914400" cy="914400"/>
            </a:xfrm>
            <a:prstGeom prst="foldedCorner">
              <a:avLst>
                <a:gd name="adj" fmla="val 18055"/>
              </a:avLst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084320" y="5059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1447560" y="5104800"/>
              <a:ext cx="45720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87600" y="4724280"/>
              <a:ext cx="61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U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904760" y="4481280"/>
              <a:ext cx="914400" cy="914400"/>
            </a:xfrm>
            <a:prstGeom prst="foldedCorner">
              <a:avLst>
                <a:gd name="adj" fmla="val 18055"/>
              </a:avLst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363680" y="4343400"/>
              <a:ext cx="61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U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211480" y="48006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2590560" y="5029200"/>
              <a:ext cx="685800" cy="228600"/>
              <a:chOff x="2590560" y="5029200"/>
              <a:chExt cx="685800" cy="228600"/>
            </a:xfrm>
          </p:grpSpPr>
          <p:sp>
            <p:nvSpPr>
              <p:cNvPr id="942" name=""/>
              <p:cNvSpPr/>
              <p:nvPr/>
            </p:nvSpPr>
            <p:spPr>
              <a:xfrm>
                <a:off x="2590560" y="5105160"/>
                <a:ext cx="593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590560" y="5181480"/>
                <a:ext cx="593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047760" y="5029200"/>
                <a:ext cx="228600" cy="228600"/>
              </a:xfrm>
              <a:prstGeom prst="rightArrow">
                <a:avLst>
                  <a:gd name="adj1" fmla="val 60130"/>
                  <a:gd name="adj2" fmla="val 100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3202200" y="4952880"/>
              <a:ext cx="61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U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5638320" y="1371240"/>
            <a:ext cx="2254320" cy="2057400"/>
            <a:chOff x="5638320" y="1371240"/>
            <a:chExt cx="2254320" cy="2057400"/>
          </a:xfrm>
        </p:grpSpPr>
        <p:sp>
          <p:nvSpPr>
            <p:cNvPr id="947" name=""/>
            <p:cNvSpPr/>
            <p:nvPr/>
          </p:nvSpPr>
          <p:spPr>
            <a:xfrm flipH="1" flipV="1">
              <a:off x="5638320" y="1371240"/>
              <a:ext cx="1752840" cy="2057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216480" y="2057400"/>
              <a:ext cx="762120" cy="685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U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63280" y="20574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Times New Roman"/>
                </a:rPr>
                <a:t>生成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1828800" y="1371600"/>
            <a:ext cx="990720" cy="1981080"/>
            <a:chOff x="1828800" y="1371600"/>
            <a:chExt cx="990720" cy="1981080"/>
          </a:xfrm>
        </p:grpSpPr>
        <p:sp>
          <p:nvSpPr>
            <p:cNvPr id="951" name=""/>
            <p:cNvSpPr/>
            <p:nvPr/>
          </p:nvSpPr>
          <p:spPr>
            <a:xfrm flipH="1">
              <a:off x="1828800" y="1371600"/>
              <a:ext cx="91440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57400" y="2057400"/>
              <a:ext cx="762120" cy="685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U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1828800" y="1371240"/>
            <a:ext cx="5562360" cy="2057400"/>
            <a:chOff x="1828800" y="1371240"/>
            <a:chExt cx="5562360" cy="2057400"/>
          </a:xfrm>
        </p:grpSpPr>
        <p:sp>
          <p:nvSpPr>
            <p:cNvPr id="954" name=""/>
            <p:cNvSpPr/>
            <p:nvPr/>
          </p:nvSpPr>
          <p:spPr>
            <a:xfrm flipH="1" flipV="1">
              <a:off x="5638320" y="1371240"/>
              <a:ext cx="1752840" cy="2057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1828800" y="1371600"/>
              <a:ext cx="91440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 flipV="1">
              <a:off x="4114800" y="1371240"/>
              <a:ext cx="53352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214440" y="2209680"/>
              <a:ext cx="2375280" cy="642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Times New Roman"/>
                </a:rPr>
                <a:t>処理の終了を報告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828800" y="1371240"/>
            <a:ext cx="5562360" cy="2057400"/>
            <a:chOff x="1828800" y="1371240"/>
            <a:chExt cx="5562360" cy="2057400"/>
          </a:xfrm>
        </p:grpSpPr>
        <p:sp>
          <p:nvSpPr>
            <p:cNvPr id="959" name=""/>
            <p:cNvSpPr/>
            <p:nvPr/>
          </p:nvSpPr>
          <p:spPr>
            <a:xfrm flipH="1" flipV="1">
              <a:off x="5638320" y="1371240"/>
              <a:ext cx="1752840" cy="2057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1828800" y="1371600"/>
              <a:ext cx="91440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 flipV="1">
              <a:off x="4114800" y="1371240"/>
              <a:ext cx="53352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351600" y="2209680"/>
              <a:ext cx="2100960" cy="642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Times New Roman"/>
                </a:rPr>
                <a:t>処理結果を要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990720" y="1371240"/>
            <a:ext cx="6400440" cy="2057400"/>
            <a:chOff x="990720" y="1371240"/>
            <a:chExt cx="6400440" cy="2057400"/>
          </a:xfrm>
        </p:grpSpPr>
        <p:sp>
          <p:nvSpPr>
            <p:cNvPr id="964" name=""/>
            <p:cNvSpPr/>
            <p:nvPr/>
          </p:nvSpPr>
          <p:spPr>
            <a:xfrm flipH="1" flipV="1">
              <a:off x="5638320" y="1371240"/>
              <a:ext cx="1752840" cy="2057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1828800" y="1371600"/>
              <a:ext cx="91440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 flipV="1">
              <a:off x="4114800" y="1371240"/>
              <a:ext cx="53352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990720" y="1447920"/>
              <a:ext cx="1218960" cy="1724760"/>
              <a:chOff x="990720" y="1447920"/>
              <a:chExt cx="1218960" cy="1724760"/>
            </a:xfrm>
          </p:grpSpPr>
          <p:sp>
            <p:nvSpPr>
              <p:cNvPr id="968" name=""/>
              <p:cNvSpPr/>
              <p:nvPr/>
            </p:nvSpPr>
            <p:spPr>
              <a:xfrm>
                <a:off x="990720" y="1524240"/>
                <a:ext cx="1218960" cy="1600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990720" y="1905120"/>
                <a:ext cx="121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599840" y="1524240"/>
                <a:ext cx="0" cy="160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068840" y="14479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677960" y="144792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993240" y="1981440"/>
                <a:ext cx="1102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U1     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U1     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U1     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3491640" y="1752480"/>
              <a:ext cx="1232640" cy="993240"/>
              <a:chOff x="3491640" y="1752480"/>
              <a:chExt cx="1232640" cy="993240"/>
            </a:xfrm>
          </p:grpSpPr>
          <p:sp>
            <p:nvSpPr>
              <p:cNvPr id="975" name=""/>
              <p:cNvSpPr/>
              <p:nvPr/>
            </p:nvSpPr>
            <p:spPr>
              <a:xfrm>
                <a:off x="3505320" y="1828800"/>
                <a:ext cx="1218960" cy="914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505320" y="2209680"/>
                <a:ext cx="121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114800" y="1828800"/>
                <a:ext cx="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583080" y="175248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193280" y="17668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491640" y="2286000"/>
                <a:ext cx="1086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U4     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5319720" y="1752480"/>
              <a:ext cx="1233360" cy="993240"/>
              <a:chOff x="5319720" y="1752480"/>
              <a:chExt cx="1233360" cy="993240"/>
            </a:xfrm>
          </p:grpSpPr>
          <p:sp>
            <p:nvSpPr>
              <p:cNvPr id="982" name=""/>
              <p:cNvSpPr/>
              <p:nvPr/>
            </p:nvSpPr>
            <p:spPr>
              <a:xfrm>
                <a:off x="5334120" y="1828800"/>
                <a:ext cx="1218960" cy="914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34120" y="2209680"/>
                <a:ext cx="121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943600" y="1828800"/>
                <a:ext cx="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411880" y="175248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022080" y="17668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19720" y="228600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U5      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8" name=""/>
          <p:cNvGrpSpPr/>
          <p:nvPr/>
        </p:nvGrpSpPr>
        <p:grpSpPr>
          <a:xfrm>
            <a:off x="5943600" y="254160"/>
            <a:ext cx="2971800" cy="1879560"/>
            <a:chOff x="5943600" y="254160"/>
            <a:chExt cx="2971800" cy="1879560"/>
          </a:xfrm>
        </p:grpSpPr>
        <p:sp>
          <p:nvSpPr>
            <p:cNvPr id="989" name=""/>
            <p:cNvSpPr/>
            <p:nvPr/>
          </p:nvSpPr>
          <p:spPr>
            <a:xfrm>
              <a:off x="5943600" y="838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163920" y="304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800000"/>
                  </a:solidFill>
                  <a:latin typeface="Times New Roman"/>
                </a:rPr>
                <a:t>結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1" name=""/>
            <p:cNvGrpSpPr/>
            <p:nvPr/>
          </p:nvGrpSpPr>
          <p:grpSpPr>
            <a:xfrm>
              <a:off x="7086600" y="254160"/>
              <a:ext cx="1828800" cy="1879560"/>
              <a:chOff x="7086600" y="254160"/>
              <a:chExt cx="1828800" cy="1879560"/>
            </a:xfrm>
          </p:grpSpPr>
          <p:sp>
            <p:nvSpPr>
              <p:cNvPr id="992" name=""/>
              <p:cNvSpPr/>
              <p:nvPr/>
            </p:nvSpPr>
            <p:spPr>
              <a:xfrm>
                <a:off x="7086600" y="304920"/>
                <a:ext cx="1828800" cy="1828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96080" y="304920"/>
                <a:ext cx="0" cy="182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8305920" y="304920"/>
                <a:ext cx="0" cy="182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086600" y="685800"/>
                <a:ext cx="182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167960" y="254160"/>
                <a:ext cx="1636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    B    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088400" y="762120"/>
                <a:ext cx="1721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     d      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     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     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8" name=""/>
          <p:cNvSpPr/>
          <p:nvPr/>
        </p:nvSpPr>
        <p:spPr>
          <a:xfrm>
            <a:off x="2028240" y="2057400"/>
            <a:ext cx="41922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起点のページ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446760" y="76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66"/>
                </a:solidFill>
                <a:latin typeface="Times New Roman"/>
              </a:rPr>
              <a:t>評価実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634400" y="762120"/>
            <a:ext cx="581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vigator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オブジェクトを分散配置した場合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しない場合での，処理時間，データ転送量を計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6320" y="225756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実験データ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25880" y="2771640"/>
            <a:ext cx="342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cc"/>
              </a:buClr>
              <a:buSzPct val="60000"/>
              <a:buFont typeface="ＭＳ Ｐゴシック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ページ 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by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SzPct val="60000"/>
              <a:buFont typeface="ＭＳ Ｐゴシック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100 ~ 2000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ペー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68080" y="4495680"/>
            <a:ext cx="224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cc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パス正規表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84320" y="5302080"/>
            <a:ext cx="3425760" cy="642600"/>
            <a:chOff x="184320" y="5302080"/>
            <a:chExt cx="3425760" cy="642600"/>
          </a:xfrm>
        </p:grpSpPr>
        <p:sp>
          <p:nvSpPr>
            <p:cNvPr id="1005" name=""/>
            <p:cNvSpPr/>
            <p:nvPr/>
          </p:nvSpPr>
          <p:spPr>
            <a:xfrm>
              <a:off x="184320" y="5302080"/>
              <a:ext cx="342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（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*     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235160" y="56386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54120" y="56386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8" name=""/>
          <p:cNvSpPr/>
          <p:nvPr/>
        </p:nvSpPr>
        <p:spPr>
          <a:xfrm>
            <a:off x="5946840" y="2362320"/>
            <a:ext cx="685800" cy="761760"/>
          </a:xfrm>
          <a:prstGeom prst="foldedCorner">
            <a:avLst>
              <a:gd name="adj" fmla="val 21759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184720" y="3505320"/>
            <a:ext cx="685800" cy="761760"/>
          </a:xfrm>
          <a:prstGeom prst="foldedCorner">
            <a:avLst>
              <a:gd name="adj" fmla="val 21759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404040" y="3505320"/>
            <a:ext cx="685800" cy="761760"/>
          </a:xfrm>
          <a:prstGeom prst="foldedCorner">
            <a:avLst>
              <a:gd name="adj" fmla="val 21759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346640" y="4800600"/>
            <a:ext cx="685800" cy="762120"/>
          </a:xfrm>
          <a:prstGeom prst="foldedCorner">
            <a:avLst>
              <a:gd name="adj" fmla="val 21759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108400" y="4800600"/>
            <a:ext cx="685800" cy="762120"/>
          </a:xfrm>
          <a:prstGeom prst="foldedCorner">
            <a:avLst>
              <a:gd name="adj" fmla="val 21759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251400" y="4800600"/>
            <a:ext cx="685800" cy="762120"/>
          </a:xfrm>
          <a:prstGeom prst="foldedCorner">
            <a:avLst>
              <a:gd name="adj" fmla="val 21759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5641920" y="2895480"/>
            <a:ext cx="4572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4727520" y="4038480"/>
            <a:ext cx="53352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5260680" y="4114800"/>
            <a:ext cx="1522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718240" y="4038480"/>
            <a:ext cx="68580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251400" y="2895480"/>
            <a:ext cx="2286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870520" y="51055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022800" y="38862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165800" y="39625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565600" y="44956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480000" y="2895480"/>
            <a:ext cx="11430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rot="16223400">
            <a:off x="5502240" y="4513320"/>
            <a:ext cx="347760" cy="2665440"/>
          </a:xfrm>
          <a:custGeom>
            <a:avLst/>
            <a:gdLst>
              <a:gd name="textAreaLeft" fmla="*/ 222120 w 347760"/>
              <a:gd name="textAreaRight" fmla="*/ 348120 w 347760"/>
              <a:gd name="textAreaTop" fmla="*/ 45000 h 2665440"/>
              <a:gd name="textAreaBottom" fmla="*/ 262044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86"/>
                  <a:pt x="10800" y="1171"/>
                </a:cubicBezTo>
                <a:lnTo>
                  <a:pt x="10800" y="9419"/>
                </a:lnTo>
                <a:cubicBezTo>
                  <a:pt x="10800" y="10005"/>
                  <a:pt x="5400" y="10590"/>
                  <a:pt x="0" y="10590"/>
                </a:cubicBezTo>
                <a:cubicBezTo>
                  <a:pt x="5400" y="10590"/>
                  <a:pt x="10800" y="11176"/>
                  <a:pt x="10800" y="11761"/>
                </a:cubicBezTo>
                <a:lnTo>
                  <a:pt x="10800" y="20429"/>
                </a:lnTo>
                <a:cubicBezTo>
                  <a:pt x="10800" y="2101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827240" y="5867280"/>
            <a:ext cx="15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800000"/>
                </a:solidFill>
                <a:latin typeface="Times New Roman"/>
              </a:rPr>
              <a:t>50</a:t>
            </a:r>
            <a:r>
              <a:rPr b="1" lang="ja-JP" sz="3600" spc="-1" strike="noStrike">
                <a:solidFill>
                  <a:srgbClr val="800000"/>
                </a:solidFill>
                <a:latin typeface="Times New Roman"/>
              </a:rPr>
              <a:t>ペー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6629400" y="2438280"/>
            <a:ext cx="457200" cy="76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341480" y="21477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800000"/>
                </a:solidFill>
                <a:latin typeface="Times New Roman"/>
              </a:rPr>
              <a:t>起点ペー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"/>
          <p:cNvGrpSpPr/>
          <p:nvPr/>
        </p:nvGrpSpPr>
        <p:grpSpPr>
          <a:xfrm>
            <a:off x="6248160" y="990720"/>
            <a:ext cx="1671480" cy="1371240"/>
            <a:chOff x="6248160" y="990720"/>
            <a:chExt cx="1671480" cy="1371240"/>
          </a:xfrm>
        </p:grpSpPr>
        <p:sp>
          <p:nvSpPr>
            <p:cNvPr id="1029" name=""/>
            <p:cNvSpPr/>
            <p:nvPr/>
          </p:nvSpPr>
          <p:spPr>
            <a:xfrm>
              <a:off x="6400800" y="990720"/>
              <a:ext cx="1295640" cy="99036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477120" y="1066680"/>
              <a:ext cx="11430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10800000">
              <a:off x="6248160" y="2057040"/>
              <a:ext cx="1671480" cy="304920"/>
            </a:xfrm>
            <a:custGeom>
              <a:avLst/>
              <a:gdLst>
                <a:gd name="textAreaLeft" fmla="*/ 306360 w 1671480"/>
                <a:gd name="textAreaRight" fmla="*/ 1365120 w 1671480"/>
                <a:gd name="textAreaTop" fmla="*/ 55800 h 304920"/>
                <a:gd name="textAreaBottom" fmla="*/ 2491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618" y="21600"/>
                  </a:lnTo>
                  <a:lnTo>
                    <a:pt x="3982" y="21600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660360" y="1233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Times New Roman"/>
                </a:rPr>
                <a:t>筑波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1142640" y="990720"/>
            <a:ext cx="1671480" cy="1371240"/>
            <a:chOff x="1142640" y="990720"/>
            <a:chExt cx="1671480" cy="1371240"/>
          </a:xfrm>
        </p:grpSpPr>
        <p:sp>
          <p:nvSpPr>
            <p:cNvPr id="1034" name=""/>
            <p:cNvSpPr/>
            <p:nvPr/>
          </p:nvSpPr>
          <p:spPr>
            <a:xfrm>
              <a:off x="1295280" y="990720"/>
              <a:ext cx="1295640" cy="990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371600" y="1066680"/>
              <a:ext cx="11430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rot="10800000">
              <a:off x="1142640" y="2057040"/>
              <a:ext cx="1671480" cy="304920"/>
            </a:xfrm>
            <a:custGeom>
              <a:avLst/>
              <a:gdLst>
                <a:gd name="textAreaLeft" fmla="*/ 306360 w 1671480"/>
                <a:gd name="textAreaRight" fmla="*/ 1365120 w 1671480"/>
                <a:gd name="textAreaTop" fmla="*/ 55800 h 304920"/>
                <a:gd name="textAreaBottom" fmla="*/ 2491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618" y="21600"/>
                  </a:lnTo>
                  <a:lnTo>
                    <a:pt x="3982" y="21600"/>
                  </a:lnTo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505520" y="99072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Times New Roman"/>
                </a:rPr>
                <a:t>神奈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Times New Roman"/>
                </a:rPr>
                <a:t>工科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446760" y="76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66"/>
                </a:solidFill>
                <a:latin typeface="Times New Roman"/>
              </a:rPr>
              <a:t>実験環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447920" y="2666880"/>
            <a:ext cx="678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ltraSparc 143MH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aris2.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ava  : JDK1.1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RB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RB 1.3.b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ｻｰﾊﾞ ：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ache1.2.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メモリ ： 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by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筑波大），                               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by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神奈川工科大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0" y="2590920"/>
            <a:ext cx="9144000" cy="3809880"/>
            <a:chOff x="0" y="2590920"/>
            <a:chExt cx="9144000" cy="3809880"/>
          </a:xfrm>
        </p:grpSpPr>
        <p:sp>
          <p:nvSpPr>
            <p:cNvPr id="1041" name=""/>
            <p:cNvSpPr/>
            <p:nvPr/>
          </p:nvSpPr>
          <p:spPr>
            <a:xfrm>
              <a:off x="762120" y="5638680"/>
              <a:ext cx="2361960" cy="76212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Navigat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" name=""/>
            <p:cNvGrpSpPr/>
            <p:nvPr/>
          </p:nvGrpSpPr>
          <p:grpSpPr>
            <a:xfrm>
              <a:off x="1752480" y="5105160"/>
              <a:ext cx="4038840" cy="990720"/>
              <a:chOff x="1752480" y="5105160"/>
              <a:chExt cx="4038840" cy="990720"/>
            </a:xfrm>
          </p:grpSpPr>
          <p:sp>
            <p:nvSpPr>
              <p:cNvPr id="1043" name=""/>
              <p:cNvSpPr/>
              <p:nvPr/>
            </p:nvSpPr>
            <p:spPr>
              <a:xfrm>
                <a:off x="3124080" y="5943600"/>
                <a:ext cx="2667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124080" y="6095880"/>
                <a:ext cx="2667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V="1">
                <a:off x="1752480" y="510516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V="1">
                <a:off x="2057400" y="510516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7" name=""/>
            <p:cNvGrpSpPr/>
            <p:nvPr/>
          </p:nvGrpSpPr>
          <p:grpSpPr>
            <a:xfrm>
              <a:off x="0" y="3962520"/>
              <a:ext cx="9144000" cy="2361960"/>
              <a:chOff x="0" y="3962520"/>
              <a:chExt cx="9144000" cy="2361960"/>
            </a:xfrm>
          </p:grpSpPr>
          <p:sp>
            <p:nvSpPr>
              <p:cNvPr id="1048" name=""/>
              <p:cNvSpPr/>
              <p:nvPr/>
            </p:nvSpPr>
            <p:spPr>
              <a:xfrm>
                <a:off x="762120" y="4419720"/>
                <a:ext cx="2438280" cy="68580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r>
                  <a:rPr b="0" lang="ja-JP" sz="3600" spc="-1" strike="noStrike">
                    <a:solidFill>
                      <a:srgbClr val="000000"/>
                    </a:solidFill>
                    <a:latin typeface="Times New Roman"/>
                  </a:rPr>
                  <a:t>ｻｰﾊﾞ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867280" y="5562720"/>
                <a:ext cx="2362320" cy="761760"/>
              </a:xfrm>
              <a:prstGeom prst="roundRect">
                <a:avLst>
                  <a:gd name="adj" fmla="val 2833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r>
                  <a:rPr b="0" lang="ja-JP" sz="3600" spc="-1" strike="noStrike">
                    <a:solidFill>
                      <a:srgbClr val="000000"/>
                    </a:solidFill>
                    <a:latin typeface="Times New Roman"/>
                  </a:rPr>
                  <a:t>ﾗｯﾊﾟｰ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01520" y="50734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ＭＳ Ｐゴシック"/>
                  <a:buChar char="②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3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0" y="2590920"/>
              <a:ext cx="9144000" cy="1066680"/>
              <a:chOff x="0" y="2590920"/>
              <a:chExt cx="9144000" cy="1066680"/>
            </a:xfrm>
          </p:grpSpPr>
          <p:grpSp>
            <p:nvGrpSpPr>
              <p:cNvPr id="1053" name=""/>
              <p:cNvGrpSpPr/>
              <p:nvPr/>
            </p:nvGrpSpPr>
            <p:grpSpPr>
              <a:xfrm>
                <a:off x="0" y="2590920"/>
                <a:ext cx="9144000" cy="1066680"/>
                <a:chOff x="0" y="2590920"/>
                <a:chExt cx="9144000" cy="106668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62120" y="2971800"/>
                  <a:ext cx="2438280" cy="685800"/>
                </a:xfrm>
                <a:prstGeom prst="ellipse">
                  <a:avLst/>
                </a:prstGeom>
                <a:solidFill>
                  <a:srgbClr val="99cc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Web</a:t>
                  </a:r>
                  <a:r>
                    <a:rPr b="0" lang="ja-JP" sz="3600" spc="-1" strike="noStrike">
                      <a:solidFill>
                        <a:srgbClr val="000000"/>
                      </a:solidFill>
                      <a:latin typeface="Times New Roman"/>
                    </a:rPr>
                    <a:t>ｻｰﾊﾞ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5867640" y="2895480"/>
                  <a:ext cx="2361960" cy="762120"/>
                </a:xfrm>
                <a:prstGeom prst="roundRect">
                  <a:avLst>
                    <a:gd name="adj" fmla="val 28333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Web</a:t>
                  </a:r>
                  <a:r>
                    <a:rPr b="0" lang="ja-JP" sz="3600" spc="-1" strike="noStrike">
                      <a:solidFill>
                        <a:srgbClr val="000000"/>
                      </a:solidFill>
                      <a:latin typeface="Times New Roman"/>
                    </a:rPr>
                    <a:t>ﾗｯﾊﾟｰ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3200400" y="3200400"/>
                  <a:ext cx="2667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3200400" y="3352680"/>
                  <a:ext cx="2667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108000" y="297180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buClr>
                      <a:srgbClr val="000000"/>
                    </a:buClr>
                    <a:buFont typeface="ＭＳ Ｐゴシック"/>
                    <a:buChar char="①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3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0" y="2590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0" name=""/>
              <p:cNvSpPr/>
              <p:nvPr/>
            </p:nvSpPr>
            <p:spPr>
              <a:xfrm>
                <a:off x="3733920" y="2971800"/>
                <a:ext cx="1600200" cy="6858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HTTP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>
              <a:off x="3733920" y="5638680"/>
              <a:ext cx="1600200" cy="685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HOR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2" name=""/>
          <p:cNvSpPr/>
          <p:nvPr/>
        </p:nvSpPr>
        <p:spPr>
          <a:xfrm>
            <a:off x="450000" y="76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66"/>
                </a:solidFill>
                <a:latin typeface="Times New Roman"/>
              </a:rPr>
              <a:t>実験環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1142640" y="990720"/>
            <a:ext cx="1671480" cy="1371240"/>
            <a:chOff x="1142640" y="990720"/>
            <a:chExt cx="1671480" cy="1371240"/>
          </a:xfrm>
        </p:grpSpPr>
        <p:sp>
          <p:nvSpPr>
            <p:cNvPr id="1064" name=""/>
            <p:cNvSpPr/>
            <p:nvPr/>
          </p:nvSpPr>
          <p:spPr>
            <a:xfrm>
              <a:off x="1295280" y="990720"/>
              <a:ext cx="1294920" cy="990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371240" y="1066680"/>
              <a:ext cx="114264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10800000">
              <a:off x="1142640" y="2057040"/>
              <a:ext cx="1671480" cy="304920"/>
            </a:xfrm>
            <a:custGeom>
              <a:avLst/>
              <a:gdLst>
                <a:gd name="textAreaLeft" fmla="*/ 306360 w 1671480"/>
                <a:gd name="textAreaRight" fmla="*/ 1365120 w 1671480"/>
                <a:gd name="textAreaTop" fmla="*/ 55800 h 304920"/>
                <a:gd name="textAreaBottom" fmla="*/ 2491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618" y="21600"/>
                  </a:lnTo>
                  <a:lnTo>
                    <a:pt x="3982" y="21600"/>
                  </a:lnTo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510200" y="99072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Times New Roman"/>
                </a:rPr>
                <a:t>神奈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Times New Roman"/>
                </a:rPr>
                <a:t>工科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6248160" y="990720"/>
            <a:ext cx="1671480" cy="1371600"/>
            <a:chOff x="6248160" y="990720"/>
            <a:chExt cx="1671480" cy="1371600"/>
          </a:xfrm>
        </p:grpSpPr>
        <p:sp>
          <p:nvSpPr>
            <p:cNvPr id="1069" name=""/>
            <p:cNvSpPr/>
            <p:nvPr/>
          </p:nvSpPr>
          <p:spPr>
            <a:xfrm>
              <a:off x="6400800" y="990720"/>
              <a:ext cx="1294920" cy="99072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476760" y="1067040"/>
              <a:ext cx="114264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rot="10800000">
              <a:off x="6248160" y="2057760"/>
              <a:ext cx="1671480" cy="304560"/>
            </a:xfrm>
            <a:custGeom>
              <a:avLst/>
              <a:gdLst>
                <a:gd name="textAreaLeft" fmla="*/ 306360 w 1671480"/>
                <a:gd name="textAreaRight" fmla="*/ 1365120 w 1671480"/>
                <a:gd name="textAreaTop" fmla="*/ 55800 h 304560"/>
                <a:gd name="textAreaBottom" fmla="*/ 24876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618" y="21600"/>
                  </a:lnTo>
                  <a:lnTo>
                    <a:pt x="3982" y="21600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615720" y="12193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Times New Roman"/>
                </a:rPr>
                <a:t>筑波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25200" y="990720"/>
            <a:ext cx="7899120" cy="4681080"/>
            <a:chOff x="25200" y="990720"/>
            <a:chExt cx="7899120" cy="4681080"/>
          </a:xfrm>
        </p:grpSpPr>
        <p:grpSp>
          <p:nvGrpSpPr>
            <p:cNvPr id="1074" name=""/>
            <p:cNvGrpSpPr/>
            <p:nvPr/>
          </p:nvGrpSpPr>
          <p:grpSpPr>
            <a:xfrm>
              <a:off x="1142640" y="990720"/>
              <a:ext cx="1671480" cy="1371240"/>
              <a:chOff x="1142640" y="990720"/>
              <a:chExt cx="1671480" cy="1371240"/>
            </a:xfrm>
          </p:grpSpPr>
          <p:sp>
            <p:nvSpPr>
              <p:cNvPr id="1075" name=""/>
              <p:cNvSpPr/>
              <p:nvPr/>
            </p:nvSpPr>
            <p:spPr>
              <a:xfrm>
                <a:off x="1295280" y="990720"/>
                <a:ext cx="1295640" cy="990360"/>
              </a:xfrm>
              <a:prstGeom prst="rect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371600" y="1066680"/>
                <a:ext cx="1143000" cy="83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10800000">
                <a:off x="1142640" y="2057040"/>
                <a:ext cx="1671480" cy="304920"/>
              </a:xfrm>
              <a:custGeom>
                <a:avLst/>
                <a:gdLst>
                  <a:gd name="textAreaLeft" fmla="*/ 306360 w 1671480"/>
                  <a:gd name="textAreaRight" fmla="*/ 1365120 w 1671480"/>
                  <a:gd name="textAreaTop" fmla="*/ 55800 h 304920"/>
                  <a:gd name="textAreaBottom" fmla="*/ 24912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618" y="21600"/>
                    </a:lnTo>
                    <a:lnTo>
                      <a:pt x="3982" y="21600"/>
                    </a:lnTo>
                    <a:close/>
                  </a:path>
                </a:pathLst>
              </a:cu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554840" y="123336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Times New Roman"/>
                  </a:rPr>
                  <a:t>筑波大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6252840" y="990720"/>
              <a:ext cx="1671480" cy="1371240"/>
              <a:chOff x="6252840" y="990720"/>
              <a:chExt cx="1671480" cy="1371240"/>
            </a:xfrm>
          </p:grpSpPr>
          <p:sp>
            <p:nvSpPr>
              <p:cNvPr id="1080" name=""/>
              <p:cNvSpPr/>
              <p:nvPr/>
            </p:nvSpPr>
            <p:spPr>
              <a:xfrm>
                <a:off x="6405480" y="990720"/>
                <a:ext cx="1295640" cy="9903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481800" y="1066680"/>
                <a:ext cx="1143000" cy="83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rot="10800000">
                <a:off x="6252840" y="2057040"/>
                <a:ext cx="1671480" cy="304920"/>
              </a:xfrm>
              <a:custGeom>
                <a:avLst/>
                <a:gdLst>
                  <a:gd name="textAreaLeft" fmla="*/ 306360 w 1671480"/>
                  <a:gd name="textAreaRight" fmla="*/ 1365120 w 1671480"/>
                  <a:gd name="textAreaTop" fmla="*/ 55800 h 304920"/>
                  <a:gd name="textAreaBottom" fmla="*/ 24912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618" y="21600"/>
                    </a:lnTo>
                    <a:lnTo>
                      <a:pt x="3982" y="21600"/>
                    </a:ln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615720" y="990720"/>
                <a:ext cx="820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Times New Roman"/>
                  </a:rPr>
                  <a:t>神奈川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Times New Roman"/>
                  </a:rPr>
                  <a:t>工科大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4" name=""/>
            <p:cNvSpPr/>
            <p:nvPr/>
          </p:nvSpPr>
          <p:spPr>
            <a:xfrm>
              <a:off x="25200" y="2971800"/>
              <a:ext cx="704880" cy="642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ＭＳ Ｐゴシック"/>
                <a:buChar char="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5200" y="5029200"/>
              <a:ext cx="704880" cy="642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ＭＳ Ｐゴシック"/>
                <a:buChar char="④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6" name=""/>
          <p:cNvSpPr/>
          <p:nvPr/>
        </p:nvSpPr>
        <p:spPr>
          <a:xfrm>
            <a:off x="2666880" y="685800"/>
            <a:ext cx="3810240" cy="581040"/>
          </a:xfrm>
          <a:custGeom>
            <a:avLst/>
            <a:gdLst>
              <a:gd name="textAreaLeft" fmla="*/ 780840 w 3810240"/>
              <a:gd name="textAreaRight" fmla="*/ 2648160 w 3810240"/>
              <a:gd name="textAreaTop" fmla="*/ 77760 h 581040"/>
              <a:gd name="textAreaBottom" fmla="*/ 503280 h 581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56" hR="21600" stAng="10800000" swAng="5400000"/>
                <a:lnTo>
                  <a:pt x="10584" y="0"/>
                </a:lnTo>
                <a:arcTo wR="8856" hR="21600" stAng="-5400000" swAng="2953678"/>
                <a:lnTo>
                  <a:pt x="21094" y="14400"/>
                </a:lnTo>
                <a:lnTo>
                  <a:pt x="18576" y="21600"/>
                </a:lnTo>
                <a:lnTo>
                  <a:pt x="15046" y="14400"/>
                </a:lnTo>
                <a:lnTo>
                  <a:pt x="17206" y="14400"/>
                </a:lnTo>
                <a:arcTo wR="8856" hR="21600" stAng="-2446322" swAng="-2815583"/>
                <a:lnTo>
                  <a:pt x="9720" y="103"/>
                </a:lnTo>
                <a:arcTo wR="8856" hR="21600" stAng="-5538095" swAng="-5261905"/>
                <a:close/>
              </a:path>
              <a:path fill="darkenLess" w="21600" h="21600">
                <a:moveTo>
                  <a:pt x="0" y="21600"/>
                </a:moveTo>
                <a:arcTo wR="8856" hR="21600" stAng="10800000" swAng="5400000"/>
                <a:lnTo>
                  <a:pt x="8856" y="0"/>
                </a:lnTo>
                <a:arcTo wR="8856" hR="21600" stAng="-5400000" swAng="138095"/>
                <a:lnTo>
                  <a:pt x="9720" y="103"/>
                </a:lnTo>
                <a:arcTo wR="8856" hR="21600" stAng="-5538095" swAng="-5261905"/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rot="10800000">
            <a:off x="2514240" y="1676160"/>
            <a:ext cx="3809880" cy="581040"/>
          </a:xfrm>
          <a:custGeom>
            <a:avLst/>
            <a:gdLst>
              <a:gd name="textAreaLeft" fmla="*/ 780840 w 3809880"/>
              <a:gd name="textAreaRight" fmla="*/ 2647800 w 3809880"/>
              <a:gd name="textAreaTop" fmla="*/ 77760 h 581040"/>
              <a:gd name="textAreaBottom" fmla="*/ 503280 h 581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56" hR="21600" stAng="10800000" swAng="5400000"/>
                <a:lnTo>
                  <a:pt x="10584" y="0"/>
                </a:lnTo>
                <a:arcTo wR="8856" hR="21600" stAng="-5400000" swAng="2953678"/>
                <a:lnTo>
                  <a:pt x="21094" y="14400"/>
                </a:lnTo>
                <a:lnTo>
                  <a:pt x="18576" y="21600"/>
                </a:lnTo>
                <a:lnTo>
                  <a:pt x="15046" y="14400"/>
                </a:lnTo>
                <a:lnTo>
                  <a:pt x="17206" y="14400"/>
                </a:lnTo>
                <a:arcTo wR="8856" hR="21600" stAng="-2446322" swAng="-2815583"/>
                <a:lnTo>
                  <a:pt x="9720" y="103"/>
                </a:lnTo>
                <a:arcTo wR="8856" hR="21600" stAng="-5538095" swAng="-5261905"/>
                <a:close/>
              </a:path>
              <a:path fill="darkenLess" w="21600" h="21600">
                <a:moveTo>
                  <a:pt x="0" y="21600"/>
                </a:moveTo>
                <a:arcTo wR="8856" hR="21600" stAng="10800000" swAng="5400000"/>
                <a:lnTo>
                  <a:pt x="8856" y="0"/>
                </a:lnTo>
                <a:arcTo wR="8856" hR="21600" stAng="-5400000" swAng="138095"/>
                <a:lnTo>
                  <a:pt x="9720" y="103"/>
                </a:lnTo>
                <a:arcTo wR="8856" hR="21600" stAng="-5538095" swAng="-5261905"/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818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66"/>
                </a:solidFill>
                <a:latin typeface="Times New Roman"/>
              </a:rPr>
              <a:t>背景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ピュータネットワークの発達に伴い、            ネットワークを通じて様々な情報源の利用が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1981080"/>
            <a:ext cx="49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リレーショナルデータベー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66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文書検索システ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66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ファイルシステ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9160" y="3497400"/>
            <a:ext cx="42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ＷＷＷ（Ｗｅｂ）の爆発的な普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885320" y="4114800"/>
            <a:ext cx="5481000" cy="1005120"/>
            <a:chOff x="1885320" y="4114800"/>
            <a:chExt cx="5481000" cy="1005120"/>
          </a:xfrm>
        </p:grpSpPr>
        <p:sp>
          <p:nvSpPr>
            <p:cNvPr id="135" name=""/>
            <p:cNvSpPr/>
            <p:nvPr/>
          </p:nvSpPr>
          <p:spPr>
            <a:xfrm>
              <a:off x="1885320" y="4538520"/>
              <a:ext cx="548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r>
                <a:rPr b="1" lang="ja-JP" sz="3200" spc="-1" strike="noStrike">
                  <a:solidFill>
                    <a:srgbClr val="000000"/>
                  </a:solidFill>
                  <a:latin typeface="Times New Roman"/>
                </a:rPr>
                <a:t>と各種情報源の統合利用への要求が増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27360" y="4114800"/>
              <a:ext cx="486000" cy="457200"/>
            </a:xfrm>
            <a:prstGeom prst="downArrow">
              <a:avLst>
                <a:gd name="adj1" fmla="val 54898"/>
                <a:gd name="adj2" fmla="val 684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-228600" y="5334120"/>
            <a:ext cx="93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構造化文書リポジトリ，ＲＤＢを対象とした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WebNR/SD</a:t>
            </a:r>
            <a:r>
              <a:rPr b="1" lang="ja-JP" sz="3600" spc="-1" strike="noStrike">
                <a:solidFill>
                  <a:srgbClr val="000066"/>
                </a:solidFill>
                <a:latin typeface="Arial"/>
              </a:rPr>
              <a:t>異種情報源統合利用環境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開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8" name=""/>
          <p:cNvGraphicFramePr/>
          <p:nvPr/>
        </p:nvGraphicFramePr>
        <p:xfrm>
          <a:off x="152280" y="152280"/>
          <a:ext cx="8839440" cy="653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0" name=""/>
          <p:cNvGraphicFramePr/>
          <p:nvPr/>
        </p:nvGraphicFramePr>
        <p:xfrm>
          <a:off x="152280" y="152280"/>
          <a:ext cx="8839440" cy="655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2" name=""/>
          <p:cNvGraphicFramePr/>
          <p:nvPr/>
        </p:nvGraphicFramePr>
        <p:xfrm>
          <a:off x="152280" y="152280"/>
          <a:ext cx="8839440" cy="655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4" name=""/>
          <p:cNvGraphicFramePr/>
          <p:nvPr/>
        </p:nvGraphicFramePr>
        <p:xfrm>
          <a:off x="152280" y="152280"/>
          <a:ext cx="8839440" cy="656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65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260640" y="76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66"/>
                </a:solidFill>
                <a:latin typeface="Times New Roman"/>
              </a:rPr>
              <a:t>考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566360" y="838080"/>
            <a:ext cx="605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検索ページ数が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付近では，処理時間がほぼ同じ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分散配置を行った場合では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838080" y="2314440"/>
            <a:ext cx="725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ラッパー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vigator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オブジェクト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オブジェクト間通信でのオーバヘッ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サーバ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vigator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オブジェクトが同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計算機上にあることによる処理の干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9" name=""/>
          <p:cNvGrpSpPr/>
          <p:nvPr/>
        </p:nvGrpSpPr>
        <p:grpSpPr>
          <a:xfrm>
            <a:off x="0" y="380880"/>
            <a:ext cx="8839080" cy="6324840"/>
            <a:chOff x="0" y="380880"/>
            <a:chExt cx="8839080" cy="6324840"/>
          </a:xfrm>
        </p:grpSpPr>
        <p:grpSp>
          <p:nvGrpSpPr>
            <p:cNvPr id="1100" name=""/>
            <p:cNvGrpSpPr/>
            <p:nvPr/>
          </p:nvGrpSpPr>
          <p:grpSpPr>
            <a:xfrm>
              <a:off x="0" y="3276720"/>
              <a:ext cx="6343200" cy="3429000"/>
              <a:chOff x="0" y="3276720"/>
              <a:chExt cx="6343200" cy="3429000"/>
            </a:xfrm>
          </p:grpSpPr>
          <p:grpSp>
            <p:nvGrpSpPr>
              <p:cNvPr id="1101" name=""/>
              <p:cNvGrpSpPr/>
              <p:nvPr/>
            </p:nvGrpSpPr>
            <p:grpSpPr>
              <a:xfrm>
                <a:off x="0" y="3276720"/>
                <a:ext cx="6343200" cy="3429000"/>
                <a:chOff x="0" y="3276720"/>
                <a:chExt cx="6343200" cy="3429000"/>
              </a:xfrm>
            </p:grpSpPr>
            <p:grpSp>
              <p:nvGrpSpPr>
                <p:cNvPr id="1102" name=""/>
                <p:cNvGrpSpPr/>
                <p:nvPr/>
              </p:nvGrpSpPr>
              <p:grpSpPr>
                <a:xfrm>
                  <a:off x="0" y="3276720"/>
                  <a:ext cx="6343200" cy="3429000"/>
                  <a:chOff x="0" y="3276720"/>
                  <a:chExt cx="6343200" cy="3429000"/>
                </a:xfrm>
              </p:grpSpPr>
              <p:grpSp>
                <p:nvGrpSpPr>
                  <p:cNvPr id="1103" name=""/>
                  <p:cNvGrpSpPr/>
                  <p:nvPr/>
                </p:nvGrpSpPr>
                <p:grpSpPr>
                  <a:xfrm>
                    <a:off x="0" y="3276720"/>
                    <a:ext cx="4038480" cy="3429000"/>
                    <a:chOff x="0" y="3276720"/>
                    <a:chExt cx="4038480" cy="3429000"/>
                  </a:xfrm>
                </p:grpSpPr>
                <p:sp>
                  <p:nvSpPr>
                    <p:cNvPr id="1104" name=""/>
                    <p:cNvSpPr/>
                    <p:nvPr/>
                  </p:nvSpPr>
                  <p:spPr>
                    <a:xfrm>
                      <a:off x="0" y="3276720"/>
                      <a:ext cx="4038480" cy="3429000"/>
                    </a:xfrm>
                    <a:prstGeom prst="ellipse">
                      <a:avLst/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>
                      <a:off x="1440" y="4800600"/>
                      <a:ext cx="112104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6" name=""/>
                  <p:cNvSpPr/>
                  <p:nvPr/>
                </p:nvSpPr>
                <p:spPr>
                  <a:xfrm>
                    <a:off x="762120" y="5715000"/>
                    <a:ext cx="2361960" cy="762120"/>
                  </a:xfrm>
                  <a:prstGeom prst="ellipse">
                    <a:avLst/>
                  </a:prstGeom>
                  <a:solidFill>
                    <a:srgbClr val="ff9933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avigator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3124080" y="6019920"/>
                    <a:ext cx="26672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3124080" y="6172200"/>
                    <a:ext cx="26672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flipV="1">
                    <a:off x="1752480" y="4419720"/>
                    <a:ext cx="0" cy="1295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 flipV="1">
                    <a:off x="2057400" y="4419720"/>
                    <a:ext cx="0" cy="1295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2954160" y="4724280"/>
                    <a:ext cx="338904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Web</a:t>
                    </a:r>
                    <a:r>
                      <a:rPr b="1" lang="ja-JP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サーバと同じ</a:t>
                    </a:r>
                    <a:r>
                      <a:rPr b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LAN</a:t>
                    </a:r>
                    <a:r>
                      <a:rPr b="1" lang="ja-JP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中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の別マシン上に生成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2" name=""/>
                <p:cNvSpPr/>
                <p:nvPr/>
              </p:nvSpPr>
              <p:spPr>
                <a:xfrm>
                  <a:off x="3733920" y="5867280"/>
                  <a:ext cx="1447560" cy="533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Times New Roman"/>
                    </a:rPr>
                    <a:t>HORB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3" name=""/>
              <p:cNvSpPr/>
              <p:nvPr/>
            </p:nvSpPr>
            <p:spPr>
              <a:xfrm>
                <a:off x="1295280" y="4800600"/>
                <a:ext cx="1219320" cy="533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36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3600" spc="-1" strike="noStrike">
                    <a:solidFill>
                      <a:srgbClr val="ff0000"/>
                    </a:solidFill>
                    <a:latin typeface="Times New Roman"/>
                  </a:rPr>
                  <a:t>HTTP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4" name=""/>
            <p:cNvGrpSpPr/>
            <p:nvPr/>
          </p:nvGrpSpPr>
          <p:grpSpPr>
            <a:xfrm>
              <a:off x="2258640" y="380880"/>
              <a:ext cx="6580440" cy="3429000"/>
              <a:chOff x="2258640" y="380880"/>
              <a:chExt cx="6580440" cy="3429000"/>
            </a:xfrm>
          </p:grpSpPr>
          <p:grpSp>
            <p:nvGrpSpPr>
              <p:cNvPr id="1115" name=""/>
              <p:cNvGrpSpPr/>
              <p:nvPr/>
            </p:nvGrpSpPr>
            <p:grpSpPr>
              <a:xfrm>
                <a:off x="4800600" y="380880"/>
                <a:ext cx="4038480" cy="3429000"/>
                <a:chOff x="4800600" y="380880"/>
                <a:chExt cx="4038480" cy="342900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4800600" y="380880"/>
                  <a:ext cx="4038480" cy="342900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7716600" y="1828800"/>
                  <a:ext cx="1121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LAN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8" name=""/>
              <p:cNvSpPr/>
              <p:nvPr/>
            </p:nvSpPr>
            <p:spPr>
              <a:xfrm>
                <a:off x="2971800" y="1219320"/>
                <a:ext cx="2666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971800" y="1371600"/>
                <a:ext cx="2666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715000" y="914400"/>
                <a:ext cx="2362320" cy="762120"/>
              </a:xfrm>
              <a:prstGeom prst="ellipse">
                <a:avLst/>
              </a:prstGeom>
              <a:solidFill>
                <a:srgbClr val="ff993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Navigator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V="1">
                <a:off x="6781680" y="167616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7086600" y="167616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258640" y="1676520"/>
                <a:ext cx="3602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Web</a:t>
                </a:r>
                <a:r>
                  <a:rPr b="1" lang="ja-JP" sz="2800" spc="-1" strike="noStrike">
                    <a:solidFill>
                      <a:srgbClr val="ff0000"/>
                    </a:solidFill>
                    <a:latin typeface="Times New Roman"/>
                  </a:rPr>
                  <a:t>ラッパーと同じ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LAN</a:t>
                </a:r>
                <a:r>
                  <a:rPr b="1" lang="ja-JP" sz="2800" spc="-1" strike="noStrike">
                    <a:solidFill>
                      <a:srgbClr val="ff0000"/>
                    </a:solidFill>
                    <a:latin typeface="Times New Roman"/>
                  </a:rPr>
                  <a:t>中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800" spc="-1" strike="noStrike">
                    <a:solidFill>
                      <a:srgbClr val="ff0000"/>
                    </a:solidFill>
                    <a:latin typeface="Times New Roman"/>
                  </a:rPr>
                  <a:t>の別マシン上に生成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248520" y="1981080"/>
                <a:ext cx="1447560" cy="457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Times New Roman"/>
                  </a:rPr>
                  <a:t>HOR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5" name=""/>
            <p:cNvSpPr/>
            <p:nvPr/>
          </p:nvSpPr>
          <p:spPr>
            <a:xfrm>
              <a:off x="3581280" y="990720"/>
              <a:ext cx="1219320" cy="533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HTTP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6" name=""/>
          <p:cNvSpPr/>
          <p:nvPr/>
        </p:nvSpPr>
        <p:spPr>
          <a:xfrm>
            <a:off x="762120" y="3733920"/>
            <a:ext cx="2438280" cy="68580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ｻｰﾊ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867280" y="5638680"/>
            <a:ext cx="2362320" cy="762120"/>
          </a:xfrm>
          <a:prstGeom prst="roundRect">
            <a:avLst>
              <a:gd name="adj" fmla="val 2833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ﾗｯﾊﾟ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5200" y="30481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ＭＳ Ｐゴシック"/>
              <a:buChar char="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33520" y="914400"/>
            <a:ext cx="2438280" cy="68580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ｻｰﾊ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791320" y="2666880"/>
            <a:ext cx="2361960" cy="762120"/>
          </a:xfrm>
          <a:prstGeom prst="roundRect">
            <a:avLst>
              <a:gd name="adj" fmla="val 2833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ﾗｯﾊﾟ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77480" y="2286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ＭＳ Ｐゴシック"/>
              <a:buChar char="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2362320"/>
            <a:ext cx="914400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3" name=""/>
          <p:cNvGraphicFramePr/>
          <p:nvPr/>
        </p:nvGraphicFramePr>
        <p:xfrm>
          <a:off x="152280" y="152280"/>
          <a:ext cx="8839440" cy="655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5" name=""/>
          <p:cNvGraphicFramePr/>
          <p:nvPr/>
        </p:nvGraphicFramePr>
        <p:xfrm>
          <a:off x="152280" y="152280"/>
          <a:ext cx="8839440" cy="655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7" name=""/>
          <p:cNvGrpSpPr/>
          <p:nvPr/>
        </p:nvGrpSpPr>
        <p:grpSpPr>
          <a:xfrm>
            <a:off x="1522800" y="3473280"/>
            <a:ext cx="8078400" cy="1333080"/>
            <a:chOff x="1522800" y="3473280"/>
            <a:chExt cx="8078400" cy="1333080"/>
          </a:xfrm>
        </p:grpSpPr>
        <p:sp>
          <p:nvSpPr>
            <p:cNvPr id="1138" name=""/>
            <p:cNvSpPr/>
            <p:nvPr/>
          </p:nvSpPr>
          <p:spPr>
            <a:xfrm rot="14875800">
              <a:off x="2870640" y="2616480"/>
              <a:ext cx="203400" cy="3046320"/>
            </a:xfrm>
            <a:custGeom>
              <a:avLst/>
              <a:gdLst>
                <a:gd name="textAreaLeft" fmla="*/ 59760 w 203400"/>
                <a:gd name="textAreaRight" fmla="*/ 203760 w 203400"/>
                <a:gd name="textAreaTop" fmla="*/ 126720 h 3046320"/>
                <a:gd name="textAreaBottom" fmla="*/ 2919600 h 304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200400" y="4038480"/>
              <a:ext cx="640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ページ転送時間 ＜ 分散配置にかかる時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>
            <a:off x="194040" y="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66"/>
                </a:solidFill>
                <a:latin typeface="Times New Roman"/>
              </a:rPr>
              <a:t>まと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59000" y="2743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66"/>
                </a:solidFill>
                <a:latin typeface="Times New Roman"/>
              </a:rPr>
              <a:t>今後の課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98840" y="533520"/>
            <a:ext cx="69350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異種情報源統合利用環境におけ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ラッパーの設計について述べた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分散オブジェクトを用いた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Navigate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処理の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ペー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転送量の削減方式と，実験評価について述べた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52280" y="3429000"/>
            <a:ext cx="8750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複数の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サーバを検索対象とした場合の評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ＨＯＲＢ以外の分散オブジェクト環境を使った実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Navigator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オブジェクト内での処理アルゴリズムの効率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Navigator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オブジェクトの効果的な配置方式の検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パス正規表現の評価順序の最適化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315200" y="3886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57200" y="1905120"/>
            <a:ext cx="8077320" cy="2819160"/>
            <a:chOff x="457200" y="1905120"/>
            <a:chExt cx="8077320" cy="2819160"/>
          </a:xfrm>
        </p:grpSpPr>
        <p:sp>
          <p:nvSpPr>
            <p:cNvPr id="140" name=""/>
            <p:cNvSpPr/>
            <p:nvPr/>
          </p:nvSpPr>
          <p:spPr>
            <a:xfrm>
              <a:off x="457200" y="1905120"/>
              <a:ext cx="8077320" cy="16761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1676520" y="3809520"/>
              <a:ext cx="0" cy="83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4343400" y="3886200"/>
              <a:ext cx="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7315200" y="3885840"/>
              <a:ext cx="0" cy="7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56680" y="38862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Times New Roman"/>
                </a:rPr>
                <a:t>変換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52160" y="38862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Times New Roman"/>
                </a:rPr>
                <a:t>変換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37160" y="39625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Times New Roman"/>
                </a:rPr>
                <a:t>変換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61560" y="2514600"/>
              <a:ext cx="527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WebNR/SD</a:t>
              </a:r>
              <a:r>
                <a:rPr b="0" lang="ja-JP" sz="4000" spc="-1" strike="noStrike">
                  <a:solidFill>
                    <a:srgbClr val="ff0000"/>
                  </a:solidFill>
                  <a:latin typeface="Times New Roman"/>
                </a:rPr>
                <a:t>統合データモデル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248520" y="6248520"/>
            <a:ext cx="2286000" cy="45720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50000">
                <a:srgbClr val="8ed1e7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320" y="763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WebNR/SD</a:t>
            </a:r>
            <a:r>
              <a:rPr b="0" lang="ja-JP" sz="4000" spc="-1" strike="noStrike">
                <a:solidFill>
                  <a:srgbClr val="000066"/>
                </a:solidFill>
                <a:latin typeface="Times New Roman"/>
              </a:rPr>
              <a:t>異種情報源統合利用環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57480" y="4444920"/>
            <a:ext cx="2639880" cy="2190960"/>
          </a:xfrm>
          <a:custGeom>
            <a:avLst/>
            <a:gdLst/>
            <a:ahLst/>
            <a:rect l="l" t="t" r="r" b="b"/>
            <a:pathLst>
              <a:path w="1663" h="1380">
                <a:moveTo>
                  <a:pt x="930" y="0"/>
                </a:moveTo>
                <a:cubicBezTo>
                  <a:pt x="941" y="4"/>
                  <a:pt x="956" y="2"/>
                  <a:pt x="963" y="11"/>
                </a:cubicBezTo>
                <a:cubicBezTo>
                  <a:pt x="977" y="30"/>
                  <a:pt x="977" y="56"/>
                  <a:pt x="985" y="78"/>
                </a:cubicBezTo>
                <a:cubicBezTo>
                  <a:pt x="989" y="89"/>
                  <a:pt x="990" y="101"/>
                  <a:pt x="997" y="111"/>
                </a:cubicBezTo>
                <a:cubicBezTo>
                  <a:pt x="1021" y="147"/>
                  <a:pt x="1028" y="143"/>
                  <a:pt x="1063" y="155"/>
                </a:cubicBezTo>
                <a:cubicBezTo>
                  <a:pt x="1111" y="150"/>
                  <a:pt x="1170" y="146"/>
                  <a:pt x="1219" y="133"/>
                </a:cubicBezTo>
                <a:cubicBezTo>
                  <a:pt x="1242" y="127"/>
                  <a:pt x="1286" y="111"/>
                  <a:pt x="1286" y="111"/>
                </a:cubicBezTo>
                <a:cubicBezTo>
                  <a:pt x="1353" y="121"/>
                  <a:pt x="1383" y="112"/>
                  <a:pt x="1419" y="166"/>
                </a:cubicBezTo>
                <a:cubicBezTo>
                  <a:pt x="1415" y="188"/>
                  <a:pt x="1419" y="213"/>
                  <a:pt x="1408" y="233"/>
                </a:cubicBezTo>
                <a:cubicBezTo>
                  <a:pt x="1395" y="256"/>
                  <a:pt x="1352" y="289"/>
                  <a:pt x="1352" y="289"/>
                </a:cubicBezTo>
                <a:cubicBezTo>
                  <a:pt x="1348" y="300"/>
                  <a:pt x="1341" y="310"/>
                  <a:pt x="1341" y="322"/>
                </a:cubicBezTo>
                <a:cubicBezTo>
                  <a:pt x="1341" y="431"/>
                  <a:pt x="1404" y="433"/>
                  <a:pt x="1486" y="466"/>
                </a:cubicBezTo>
                <a:cubicBezTo>
                  <a:pt x="1508" y="475"/>
                  <a:pt x="1533" y="476"/>
                  <a:pt x="1552" y="489"/>
                </a:cubicBezTo>
                <a:cubicBezTo>
                  <a:pt x="1574" y="504"/>
                  <a:pt x="1619" y="533"/>
                  <a:pt x="1619" y="533"/>
                </a:cubicBezTo>
                <a:cubicBezTo>
                  <a:pt x="1648" y="620"/>
                  <a:pt x="1595" y="658"/>
                  <a:pt x="1519" y="677"/>
                </a:cubicBezTo>
                <a:cubicBezTo>
                  <a:pt x="1497" y="692"/>
                  <a:pt x="1474" y="707"/>
                  <a:pt x="1452" y="722"/>
                </a:cubicBezTo>
                <a:cubicBezTo>
                  <a:pt x="1432" y="735"/>
                  <a:pt x="1430" y="789"/>
                  <a:pt x="1430" y="789"/>
                </a:cubicBezTo>
                <a:cubicBezTo>
                  <a:pt x="1468" y="846"/>
                  <a:pt x="1522" y="879"/>
                  <a:pt x="1586" y="900"/>
                </a:cubicBezTo>
                <a:cubicBezTo>
                  <a:pt x="1629" y="929"/>
                  <a:pt x="1646" y="916"/>
                  <a:pt x="1663" y="966"/>
                </a:cubicBezTo>
                <a:cubicBezTo>
                  <a:pt x="1638" y="1118"/>
                  <a:pt x="1601" y="1067"/>
                  <a:pt x="1419" y="1077"/>
                </a:cubicBezTo>
                <a:cubicBezTo>
                  <a:pt x="1392" y="1161"/>
                  <a:pt x="1419" y="1062"/>
                  <a:pt x="1419" y="1233"/>
                </a:cubicBezTo>
                <a:cubicBezTo>
                  <a:pt x="1419" y="1259"/>
                  <a:pt x="1427" y="1292"/>
                  <a:pt x="1408" y="1311"/>
                </a:cubicBezTo>
                <a:cubicBezTo>
                  <a:pt x="1389" y="1330"/>
                  <a:pt x="1356" y="1318"/>
                  <a:pt x="1330" y="1322"/>
                </a:cubicBezTo>
                <a:cubicBezTo>
                  <a:pt x="1212" y="1311"/>
                  <a:pt x="1204" y="1338"/>
                  <a:pt x="1163" y="1255"/>
                </a:cubicBezTo>
                <a:cubicBezTo>
                  <a:pt x="1146" y="1220"/>
                  <a:pt x="1074" y="1177"/>
                  <a:pt x="1074" y="1177"/>
                </a:cubicBezTo>
                <a:cubicBezTo>
                  <a:pt x="1036" y="1185"/>
                  <a:pt x="1013" y="1184"/>
                  <a:pt x="985" y="1211"/>
                </a:cubicBezTo>
                <a:cubicBezTo>
                  <a:pt x="951" y="1245"/>
                  <a:pt x="948" y="1302"/>
                  <a:pt x="908" y="1333"/>
                </a:cubicBezTo>
                <a:cubicBezTo>
                  <a:pt x="895" y="1344"/>
                  <a:pt x="818" y="1370"/>
                  <a:pt x="797" y="1377"/>
                </a:cubicBezTo>
                <a:cubicBezTo>
                  <a:pt x="767" y="1372"/>
                  <a:pt x="713" y="1380"/>
                  <a:pt x="708" y="1333"/>
                </a:cubicBezTo>
                <a:cubicBezTo>
                  <a:pt x="706" y="1311"/>
                  <a:pt x="714" y="1288"/>
                  <a:pt x="719" y="1266"/>
                </a:cubicBezTo>
                <a:cubicBezTo>
                  <a:pt x="725" y="1243"/>
                  <a:pt x="741" y="1200"/>
                  <a:pt x="741" y="1200"/>
                </a:cubicBezTo>
                <a:cubicBezTo>
                  <a:pt x="694" y="1128"/>
                  <a:pt x="649" y="1158"/>
                  <a:pt x="563" y="1166"/>
                </a:cubicBezTo>
                <a:cubicBezTo>
                  <a:pt x="503" y="1186"/>
                  <a:pt x="468" y="1235"/>
                  <a:pt x="408" y="1255"/>
                </a:cubicBezTo>
                <a:cubicBezTo>
                  <a:pt x="363" y="1251"/>
                  <a:pt x="315" y="1262"/>
                  <a:pt x="274" y="1244"/>
                </a:cubicBezTo>
                <a:cubicBezTo>
                  <a:pt x="245" y="1231"/>
                  <a:pt x="229" y="1175"/>
                  <a:pt x="219" y="1144"/>
                </a:cubicBezTo>
                <a:cubicBezTo>
                  <a:pt x="234" y="977"/>
                  <a:pt x="228" y="1063"/>
                  <a:pt x="263" y="955"/>
                </a:cubicBezTo>
                <a:cubicBezTo>
                  <a:pt x="259" y="940"/>
                  <a:pt x="260" y="924"/>
                  <a:pt x="252" y="911"/>
                </a:cubicBezTo>
                <a:cubicBezTo>
                  <a:pt x="240" y="893"/>
                  <a:pt x="184" y="862"/>
                  <a:pt x="163" y="855"/>
                </a:cubicBezTo>
                <a:cubicBezTo>
                  <a:pt x="152" y="844"/>
                  <a:pt x="143" y="831"/>
                  <a:pt x="130" y="822"/>
                </a:cubicBezTo>
                <a:cubicBezTo>
                  <a:pt x="120" y="815"/>
                  <a:pt x="105" y="818"/>
                  <a:pt x="96" y="811"/>
                </a:cubicBezTo>
                <a:cubicBezTo>
                  <a:pt x="71" y="792"/>
                  <a:pt x="30" y="744"/>
                  <a:pt x="30" y="744"/>
                </a:cubicBezTo>
                <a:cubicBezTo>
                  <a:pt x="12" y="690"/>
                  <a:pt x="0" y="654"/>
                  <a:pt x="63" y="633"/>
                </a:cubicBezTo>
                <a:cubicBezTo>
                  <a:pt x="153" y="543"/>
                  <a:pt x="228" y="657"/>
                  <a:pt x="297" y="555"/>
                </a:cubicBezTo>
                <a:cubicBezTo>
                  <a:pt x="324" y="475"/>
                  <a:pt x="342" y="376"/>
                  <a:pt x="274" y="311"/>
                </a:cubicBezTo>
                <a:cubicBezTo>
                  <a:pt x="259" y="251"/>
                  <a:pt x="236" y="206"/>
                  <a:pt x="285" y="155"/>
                </a:cubicBezTo>
                <a:cubicBezTo>
                  <a:pt x="322" y="159"/>
                  <a:pt x="360" y="157"/>
                  <a:pt x="397" y="166"/>
                </a:cubicBezTo>
                <a:cubicBezTo>
                  <a:pt x="448" y="178"/>
                  <a:pt x="461" y="247"/>
                  <a:pt x="519" y="266"/>
                </a:cubicBezTo>
                <a:cubicBezTo>
                  <a:pt x="581" y="251"/>
                  <a:pt x="566" y="240"/>
                  <a:pt x="608" y="200"/>
                </a:cubicBezTo>
                <a:cubicBezTo>
                  <a:pt x="622" y="144"/>
                  <a:pt x="614" y="132"/>
                  <a:pt x="663" y="100"/>
                </a:cubicBezTo>
                <a:cubicBezTo>
                  <a:pt x="727" y="118"/>
                  <a:pt x="752" y="123"/>
                  <a:pt x="797" y="166"/>
                </a:cubicBezTo>
                <a:cubicBezTo>
                  <a:pt x="812" y="211"/>
                  <a:pt x="830" y="218"/>
                  <a:pt x="874" y="233"/>
                </a:cubicBezTo>
                <a:cubicBezTo>
                  <a:pt x="934" y="176"/>
                  <a:pt x="885" y="115"/>
                  <a:pt x="885" y="44"/>
                </a:cubicBezTo>
              </a:path>
            </a:pathLst>
          </a:custGeom>
          <a:gradFill rotWithShape="0">
            <a:gsLst>
              <a:gs pos="0">
                <a:srgbClr val="a8dbec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81080" y="2057400"/>
            <a:ext cx="14479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205740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91120" y="2057400"/>
            <a:ext cx="274320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1676520"/>
            <a:ext cx="1904760" cy="685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メディエー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781680" y="838080"/>
            <a:ext cx="838080" cy="914400"/>
            <a:chOff x="6781680" y="838080"/>
            <a:chExt cx="838080" cy="914400"/>
          </a:xfrm>
        </p:grpSpPr>
        <p:sp>
          <p:nvSpPr>
            <p:cNvPr id="156" name=""/>
            <p:cNvSpPr/>
            <p:nvPr/>
          </p:nvSpPr>
          <p:spPr>
            <a:xfrm>
              <a:off x="6781680" y="1143000"/>
              <a:ext cx="838080" cy="609480"/>
            </a:xfrm>
            <a:prstGeom prst="triangle">
              <a:avLst>
                <a:gd name="adj" fmla="val 50000"/>
              </a:avLst>
            </a:prstGeom>
            <a:solidFill>
              <a:srgbClr val="e1e1b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7640" y="838080"/>
              <a:ext cx="685800" cy="457200"/>
            </a:xfrm>
            <a:prstGeom prst="smileyFace">
              <a:avLst>
                <a:gd name="adj" fmla="val 9282"/>
              </a:avLst>
            </a:prstGeom>
            <a:solidFill>
              <a:srgbClr val="e1e1b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888000" y="452124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We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5429160"/>
            <a:ext cx="642960" cy="514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38680" y="5143680"/>
            <a:ext cx="81756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54600" y="5315040"/>
            <a:ext cx="993600" cy="57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20960" y="5315040"/>
            <a:ext cx="233640" cy="34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662280" y="5543640"/>
            <a:ext cx="351000" cy="34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79840" y="5029200"/>
            <a:ext cx="701640" cy="62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79840" y="5772240"/>
            <a:ext cx="701640" cy="62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71960" y="5486400"/>
            <a:ext cx="700200" cy="62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38680" y="5886360"/>
            <a:ext cx="525240" cy="57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4876920"/>
            <a:ext cx="2286000" cy="16002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8ed1e7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4648320"/>
            <a:ext cx="2286000" cy="4572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553080" y="5181480"/>
            <a:ext cx="1295640" cy="838440"/>
            <a:chOff x="6553080" y="5181480"/>
            <a:chExt cx="1295640" cy="838440"/>
          </a:xfrm>
        </p:grpSpPr>
        <p:sp>
          <p:nvSpPr>
            <p:cNvPr id="171" name=""/>
            <p:cNvSpPr/>
            <p:nvPr/>
          </p:nvSpPr>
          <p:spPr>
            <a:xfrm>
              <a:off x="6553080" y="5181480"/>
              <a:ext cx="1295640" cy="838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53080" y="5439240"/>
              <a:ext cx="12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06240" y="5181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77480" y="5181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859080" y="449892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RD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010280" y="5562720"/>
            <a:ext cx="1295640" cy="838080"/>
            <a:chOff x="7010280" y="5562720"/>
            <a:chExt cx="1295640" cy="838080"/>
          </a:xfrm>
        </p:grpSpPr>
        <p:sp>
          <p:nvSpPr>
            <p:cNvPr id="177" name=""/>
            <p:cNvSpPr/>
            <p:nvPr/>
          </p:nvSpPr>
          <p:spPr>
            <a:xfrm>
              <a:off x="7010280" y="5562720"/>
              <a:ext cx="1295640" cy="838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10280" y="5820480"/>
              <a:ext cx="12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3440" y="55627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834680" y="55627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33520" y="4876920"/>
            <a:ext cx="2286000" cy="16002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a8dbec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4648320"/>
            <a:ext cx="2286000" cy="4572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6248520"/>
            <a:ext cx="2286000" cy="45720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50000">
                <a:srgbClr val="a8dbec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54100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5562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57150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21320" y="464832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構造化文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リポジト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21120" y="5769000"/>
            <a:ext cx="18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SGM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8520" y="564516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XM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966320" y="990720"/>
            <a:ext cx="4968000" cy="761760"/>
            <a:chOff x="1966320" y="990720"/>
            <a:chExt cx="4968000" cy="761760"/>
          </a:xfrm>
        </p:grpSpPr>
        <p:sp>
          <p:nvSpPr>
            <p:cNvPr id="192" name=""/>
            <p:cNvSpPr/>
            <p:nvPr/>
          </p:nvSpPr>
          <p:spPr>
            <a:xfrm>
              <a:off x="6019920" y="1219320"/>
              <a:ext cx="914400" cy="228600"/>
            </a:xfrm>
            <a:prstGeom prst="leftRightArrow">
              <a:avLst>
                <a:gd name="adj1" fmla="val 50000"/>
                <a:gd name="adj2" fmla="val 7963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66320" y="99072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Times New Roman"/>
                </a:rPr>
                <a:t>統合操作を指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809880" y="1447920"/>
              <a:ext cx="76212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4572000" y="990720"/>
            <a:ext cx="1447920" cy="685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3809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3886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3124080"/>
            <a:ext cx="1905120" cy="685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ラッパ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3200400"/>
            <a:ext cx="1904760" cy="685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ラッパ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3200400"/>
            <a:ext cx="1905120" cy="685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ラッパ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962520" y="14475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632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66"/>
                </a:solidFill>
                <a:latin typeface="Times New Roman"/>
              </a:rPr>
              <a:t>発表内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本統合利用環境における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Web</a:t>
            </a:r>
            <a:r>
              <a:rPr b="0" lang="ja-JP" sz="3200" spc="-1" strike="noStrike">
                <a:solidFill>
                  <a:srgbClr val="800000"/>
                </a:solidFill>
                <a:latin typeface="Times New Roman"/>
              </a:rPr>
              <a:t>ラッパー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設計開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15200" y="3886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1905120"/>
            <a:ext cx="8077320" cy="167616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61560" y="2514600"/>
            <a:ext cx="52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ebNR/SD</a:t>
            </a:r>
            <a:r>
              <a:rPr b="0" lang="ja-JP" sz="4000" spc="-1" strike="noStrike">
                <a:solidFill>
                  <a:srgbClr val="ff0000"/>
                </a:solidFill>
                <a:latin typeface="Times New Roman"/>
              </a:rPr>
              <a:t>統合データモデ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48520" y="6248520"/>
            <a:ext cx="2286000" cy="45720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50000">
                <a:srgbClr val="8ed1e7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57480" y="4444920"/>
            <a:ext cx="2639880" cy="2190960"/>
          </a:xfrm>
          <a:custGeom>
            <a:avLst/>
            <a:gdLst/>
            <a:ahLst/>
            <a:rect l="l" t="t" r="r" b="b"/>
            <a:pathLst>
              <a:path w="1663" h="1380">
                <a:moveTo>
                  <a:pt x="930" y="0"/>
                </a:moveTo>
                <a:cubicBezTo>
                  <a:pt x="941" y="4"/>
                  <a:pt x="956" y="2"/>
                  <a:pt x="963" y="11"/>
                </a:cubicBezTo>
                <a:cubicBezTo>
                  <a:pt x="977" y="30"/>
                  <a:pt x="977" y="56"/>
                  <a:pt x="985" y="78"/>
                </a:cubicBezTo>
                <a:cubicBezTo>
                  <a:pt x="989" y="89"/>
                  <a:pt x="990" y="101"/>
                  <a:pt x="997" y="111"/>
                </a:cubicBezTo>
                <a:cubicBezTo>
                  <a:pt x="1021" y="147"/>
                  <a:pt x="1028" y="143"/>
                  <a:pt x="1063" y="155"/>
                </a:cubicBezTo>
                <a:cubicBezTo>
                  <a:pt x="1111" y="150"/>
                  <a:pt x="1170" y="146"/>
                  <a:pt x="1219" y="133"/>
                </a:cubicBezTo>
                <a:cubicBezTo>
                  <a:pt x="1242" y="127"/>
                  <a:pt x="1286" y="111"/>
                  <a:pt x="1286" y="111"/>
                </a:cubicBezTo>
                <a:cubicBezTo>
                  <a:pt x="1353" y="121"/>
                  <a:pt x="1383" y="112"/>
                  <a:pt x="1419" y="166"/>
                </a:cubicBezTo>
                <a:cubicBezTo>
                  <a:pt x="1415" y="188"/>
                  <a:pt x="1419" y="213"/>
                  <a:pt x="1408" y="233"/>
                </a:cubicBezTo>
                <a:cubicBezTo>
                  <a:pt x="1395" y="256"/>
                  <a:pt x="1352" y="289"/>
                  <a:pt x="1352" y="289"/>
                </a:cubicBezTo>
                <a:cubicBezTo>
                  <a:pt x="1348" y="300"/>
                  <a:pt x="1341" y="310"/>
                  <a:pt x="1341" y="322"/>
                </a:cubicBezTo>
                <a:cubicBezTo>
                  <a:pt x="1341" y="431"/>
                  <a:pt x="1404" y="433"/>
                  <a:pt x="1486" y="466"/>
                </a:cubicBezTo>
                <a:cubicBezTo>
                  <a:pt x="1508" y="475"/>
                  <a:pt x="1533" y="476"/>
                  <a:pt x="1552" y="489"/>
                </a:cubicBezTo>
                <a:cubicBezTo>
                  <a:pt x="1574" y="504"/>
                  <a:pt x="1619" y="533"/>
                  <a:pt x="1619" y="533"/>
                </a:cubicBezTo>
                <a:cubicBezTo>
                  <a:pt x="1648" y="620"/>
                  <a:pt x="1595" y="658"/>
                  <a:pt x="1519" y="677"/>
                </a:cubicBezTo>
                <a:cubicBezTo>
                  <a:pt x="1497" y="692"/>
                  <a:pt x="1474" y="707"/>
                  <a:pt x="1452" y="722"/>
                </a:cubicBezTo>
                <a:cubicBezTo>
                  <a:pt x="1432" y="735"/>
                  <a:pt x="1430" y="789"/>
                  <a:pt x="1430" y="789"/>
                </a:cubicBezTo>
                <a:cubicBezTo>
                  <a:pt x="1468" y="846"/>
                  <a:pt x="1522" y="879"/>
                  <a:pt x="1586" y="900"/>
                </a:cubicBezTo>
                <a:cubicBezTo>
                  <a:pt x="1629" y="929"/>
                  <a:pt x="1646" y="916"/>
                  <a:pt x="1663" y="966"/>
                </a:cubicBezTo>
                <a:cubicBezTo>
                  <a:pt x="1638" y="1118"/>
                  <a:pt x="1601" y="1067"/>
                  <a:pt x="1419" y="1077"/>
                </a:cubicBezTo>
                <a:cubicBezTo>
                  <a:pt x="1392" y="1161"/>
                  <a:pt x="1419" y="1062"/>
                  <a:pt x="1419" y="1233"/>
                </a:cubicBezTo>
                <a:cubicBezTo>
                  <a:pt x="1419" y="1259"/>
                  <a:pt x="1427" y="1292"/>
                  <a:pt x="1408" y="1311"/>
                </a:cubicBezTo>
                <a:cubicBezTo>
                  <a:pt x="1389" y="1330"/>
                  <a:pt x="1356" y="1318"/>
                  <a:pt x="1330" y="1322"/>
                </a:cubicBezTo>
                <a:cubicBezTo>
                  <a:pt x="1212" y="1311"/>
                  <a:pt x="1204" y="1338"/>
                  <a:pt x="1163" y="1255"/>
                </a:cubicBezTo>
                <a:cubicBezTo>
                  <a:pt x="1146" y="1220"/>
                  <a:pt x="1074" y="1177"/>
                  <a:pt x="1074" y="1177"/>
                </a:cubicBezTo>
                <a:cubicBezTo>
                  <a:pt x="1036" y="1185"/>
                  <a:pt x="1013" y="1184"/>
                  <a:pt x="985" y="1211"/>
                </a:cubicBezTo>
                <a:cubicBezTo>
                  <a:pt x="951" y="1245"/>
                  <a:pt x="948" y="1302"/>
                  <a:pt x="908" y="1333"/>
                </a:cubicBezTo>
                <a:cubicBezTo>
                  <a:pt x="895" y="1344"/>
                  <a:pt x="818" y="1370"/>
                  <a:pt x="797" y="1377"/>
                </a:cubicBezTo>
                <a:cubicBezTo>
                  <a:pt x="767" y="1372"/>
                  <a:pt x="713" y="1380"/>
                  <a:pt x="708" y="1333"/>
                </a:cubicBezTo>
                <a:cubicBezTo>
                  <a:pt x="706" y="1311"/>
                  <a:pt x="714" y="1288"/>
                  <a:pt x="719" y="1266"/>
                </a:cubicBezTo>
                <a:cubicBezTo>
                  <a:pt x="725" y="1243"/>
                  <a:pt x="741" y="1200"/>
                  <a:pt x="741" y="1200"/>
                </a:cubicBezTo>
                <a:cubicBezTo>
                  <a:pt x="694" y="1128"/>
                  <a:pt x="649" y="1158"/>
                  <a:pt x="563" y="1166"/>
                </a:cubicBezTo>
                <a:cubicBezTo>
                  <a:pt x="503" y="1186"/>
                  <a:pt x="468" y="1235"/>
                  <a:pt x="408" y="1255"/>
                </a:cubicBezTo>
                <a:cubicBezTo>
                  <a:pt x="363" y="1251"/>
                  <a:pt x="315" y="1262"/>
                  <a:pt x="274" y="1244"/>
                </a:cubicBezTo>
                <a:cubicBezTo>
                  <a:pt x="245" y="1231"/>
                  <a:pt x="229" y="1175"/>
                  <a:pt x="219" y="1144"/>
                </a:cubicBezTo>
                <a:cubicBezTo>
                  <a:pt x="234" y="977"/>
                  <a:pt x="228" y="1063"/>
                  <a:pt x="263" y="955"/>
                </a:cubicBezTo>
                <a:cubicBezTo>
                  <a:pt x="259" y="940"/>
                  <a:pt x="260" y="924"/>
                  <a:pt x="252" y="911"/>
                </a:cubicBezTo>
                <a:cubicBezTo>
                  <a:pt x="240" y="893"/>
                  <a:pt x="184" y="862"/>
                  <a:pt x="163" y="855"/>
                </a:cubicBezTo>
                <a:cubicBezTo>
                  <a:pt x="152" y="844"/>
                  <a:pt x="143" y="831"/>
                  <a:pt x="130" y="822"/>
                </a:cubicBezTo>
                <a:cubicBezTo>
                  <a:pt x="120" y="815"/>
                  <a:pt x="105" y="818"/>
                  <a:pt x="96" y="811"/>
                </a:cubicBezTo>
                <a:cubicBezTo>
                  <a:pt x="71" y="792"/>
                  <a:pt x="30" y="744"/>
                  <a:pt x="30" y="744"/>
                </a:cubicBezTo>
                <a:cubicBezTo>
                  <a:pt x="12" y="690"/>
                  <a:pt x="0" y="654"/>
                  <a:pt x="63" y="633"/>
                </a:cubicBezTo>
                <a:cubicBezTo>
                  <a:pt x="153" y="543"/>
                  <a:pt x="228" y="657"/>
                  <a:pt x="297" y="555"/>
                </a:cubicBezTo>
                <a:cubicBezTo>
                  <a:pt x="324" y="475"/>
                  <a:pt x="342" y="376"/>
                  <a:pt x="274" y="311"/>
                </a:cubicBezTo>
                <a:cubicBezTo>
                  <a:pt x="259" y="251"/>
                  <a:pt x="236" y="206"/>
                  <a:pt x="285" y="155"/>
                </a:cubicBezTo>
                <a:cubicBezTo>
                  <a:pt x="322" y="159"/>
                  <a:pt x="360" y="157"/>
                  <a:pt x="397" y="166"/>
                </a:cubicBezTo>
                <a:cubicBezTo>
                  <a:pt x="448" y="178"/>
                  <a:pt x="461" y="247"/>
                  <a:pt x="519" y="266"/>
                </a:cubicBezTo>
                <a:cubicBezTo>
                  <a:pt x="581" y="251"/>
                  <a:pt x="566" y="240"/>
                  <a:pt x="608" y="200"/>
                </a:cubicBezTo>
                <a:cubicBezTo>
                  <a:pt x="622" y="144"/>
                  <a:pt x="614" y="132"/>
                  <a:pt x="663" y="100"/>
                </a:cubicBezTo>
                <a:cubicBezTo>
                  <a:pt x="727" y="118"/>
                  <a:pt x="752" y="123"/>
                  <a:pt x="797" y="166"/>
                </a:cubicBezTo>
                <a:cubicBezTo>
                  <a:pt x="812" y="211"/>
                  <a:pt x="830" y="218"/>
                  <a:pt x="874" y="233"/>
                </a:cubicBezTo>
                <a:cubicBezTo>
                  <a:pt x="934" y="176"/>
                  <a:pt x="885" y="115"/>
                  <a:pt x="885" y="44"/>
                </a:cubicBezTo>
              </a:path>
            </a:pathLst>
          </a:custGeom>
          <a:gradFill rotWithShape="0">
            <a:gsLst>
              <a:gs pos="0">
                <a:srgbClr val="a8dbec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981080" y="2057400"/>
            <a:ext cx="14479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205740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057400"/>
            <a:ext cx="274320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90920" y="1676520"/>
            <a:ext cx="1904760" cy="685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メディエー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8000" y="452124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We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5429160"/>
            <a:ext cx="642960" cy="514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38680" y="5143680"/>
            <a:ext cx="81756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54600" y="5315040"/>
            <a:ext cx="993600" cy="57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720960" y="5315040"/>
            <a:ext cx="233640" cy="34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662280" y="5543640"/>
            <a:ext cx="351000" cy="34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79840" y="5029200"/>
            <a:ext cx="701640" cy="62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79840" y="5772240"/>
            <a:ext cx="701640" cy="62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71960" y="5486400"/>
            <a:ext cx="700200" cy="62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38680" y="5886360"/>
            <a:ext cx="525240" cy="57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4876920"/>
            <a:ext cx="2286000" cy="16002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8ed1e7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4648320"/>
            <a:ext cx="2286000" cy="4572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553080" y="5181480"/>
            <a:ext cx="1295640" cy="838440"/>
            <a:chOff x="6553080" y="5181480"/>
            <a:chExt cx="1295640" cy="838440"/>
          </a:xfrm>
        </p:grpSpPr>
        <p:sp>
          <p:nvSpPr>
            <p:cNvPr id="226" name=""/>
            <p:cNvSpPr/>
            <p:nvPr/>
          </p:nvSpPr>
          <p:spPr>
            <a:xfrm>
              <a:off x="6553080" y="5181480"/>
              <a:ext cx="1295640" cy="838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53080" y="5439240"/>
              <a:ext cx="12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06240" y="5181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77480" y="5181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9080" y="449892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RD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010280" y="5562720"/>
            <a:ext cx="1295640" cy="838080"/>
            <a:chOff x="7010280" y="5562720"/>
            <a:chExt cx="1295640" cy="838080"/>
          </a:xfrm>
        </p:grpSpPr>
        <p:sp>
          <p:nvSpPr>
            <p:cNvPr id="232" name=""/>
            <p:cNvSpPr/>
            <p:nvPr/>
          </p:nvSpPr>
          <p:spPr>
            <a:xfrm>
              <a:off x="7010280" y="5562720"/>
              <a:ext cx="1295640" cy="838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10280" y="5820480"/>
              <a:ext cx="12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63440" y="55627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834680" y="55627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33520" y="4876920"/>
            <a:ext cx="2286000" cy="16002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a8dbec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4648320"/>
            <a:ext cx="2286000" cy="4572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6248520"/>
            <a:ext cx="2286000" cy="45720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50000">
                <a:srgbClr val="a8dbec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54100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5562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57150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21320" y="464832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構造化文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リポジト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1120" y="5769000"/>
            <a:ext cx="18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SGM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68520" y="564516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XM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3809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43400" y="3886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3124080"/>
            <a:ext cx="1905120" cy="685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ラッパ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48520" y="3200400"/>
            <a:ext cx="1904760" cy="685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ラッパ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3200400"/>
            <a:ext cx="1905120" cy="685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ラッパ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3200400"/>
            <a:ext cx="2133360" cy="685800"/>
          </a:xfrm>
          <a:prstGeom prst="ellipse">
            <a:avLst/>
          </a:prstGeom>
          <a:solidFill>
            <a:srgbClr val="ff66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ﾗｯﾊﾟ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66"/>
                </a:solidFill>
                <a:latin typeface="Times New Roman"/>
              </a:rPr>
              <a:t>発表手順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253188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  本統合利用環境の特徴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ラッパ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役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２）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ラッパーのアーキテクチ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３）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ラッパーの性能評価実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４）  まとめと今後の課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191120" y="4110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0" y="3652920"/>
            <a:ext cx="990720" cy="838080"/>
            <a:chOff x="0" y="3652920"/>
            <a:chExt cx="990720" cy="838080"/>
          </a:xfrm>
        </p:grpSpPr>
        <p:sp>
          <p:nvSpPr>
            <p:cNvPr id="256" name=""/>
            <p:cNvSpPr/>
            <p:nvPr/>
          </p:nvSpPr>
          <p:spPr>
            <a:xfrm>
              <a:off x="0" y="3749400"/>
              <a:ext cx="990720" cy="676800"/>
            </a:xfrm>
            <a:prstGeom prst="rect">
              <a:avLst/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0" y="3652920"/>
              <a:ext cx="990720" cy="19332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0" y="4297680"/>
              <a:ext cx="990720" cy="193320"/>
            </a:xfrm>
            <a:prstGeom prst="ellipse">
              <a:avLst/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1600200" y="3195720"/>
            <a:ext cx="4648320" cy="3657600"/>
          </a:xfrm>
          <a:custGeom>
            <a:avLst/>
            <a:gdLst/>
            <a:ahLst/>
            <a:rect l="l" t="t" r="r" b="b"/>
            <a:pathLst>
              <a:path w="1663" h="1380">
                <a:moveTo>
                  <a:pt x="930" y="0"/>
                </a:moveTo>
                <a:cubicBezTo>
                  <a:pt x="941" y="4"/>
                  <a:pt x="956" y="2"/>
                  <a:pt x="963" y="11"/>
                </a:cubicBezTo>
                <a:cubicBezTo>
                  <a:pt x="977" y="30"/>
                  <a:pt x="977" y="56"/>
                  <a:pt x="985" y="78"/>
                </a:cubicBezTo>
                <a:cubicBezTo>
                  <a:pt x="989" y="89"/>
                  <a:pt x="990" y="101"/>
                  <a:pt x="997" y="111"/>
                </a:cubicBezTo>
                <a:cubicBezTo>
                  <a:pt x="1021" y="147"/>
                  <a:pt x="1028" y="143"/>
                  <a:pt x="1063" y="155"/>
                </a:cubicBezTo>
                <a:cubicBezTo>
                  <a:pt x="1111" y="150"/>
                  <a:pt x="1170" y="146"/>
                  <a:pt x="1219" y="133"/>
                </a:cubicBezTo>
                <a:cubicBezTo>
                  <a:pt x="1242" y="127"/>
                  <a:pt x="1286" y="111"/>
                  <a:pt x="1286" y="111"/>
                </a:cubicBezTo>
                <a:cubicBezTo>
                  <a:pt x="1353" y="121"/>
                  <a:pt x="1383" y="112"/>
                  <a:pt x="1419" y="166"/>
                </a:cubicBezTo>
                <a:cubicBezTo>
                  <a:pt x="1415" y="188"/>
                  <a:pt x="1419" y="213"/>
                  <a:pt x="1408" y="233"/>
                </a:cubicBezTo>
                <a:cubicBezTo>
                  <a:pt x="1395" y="256"/>
                  <a:pt x="1352" y="289"/>
                  <a:pt x="1352" y="289"/>
                </a:cubicBezTo>
                <a:cubicBezTo>
                  <a:pt x="1348" y="300"/>
                  <a:pt x="1341" y="310"/>
                  <a:pt x="1341" y="322"/>
                </a:cubicBezTo>
                <a:cubicBezTo>
                  <a:pt x="1341" y="431"/>
                  <a:pt x="1404" y="433"/>
                  <a:pt x="1486" y="466"/>
                </a:cubicBezTo>
                <a:cubicBezTo>
                  <a:pt x="1508" y="475"/>
                  <a:pt x="1533" y="476"/>
                  <a:pt x="1552" y="489"/>
                </a:cubicBezTo>
                <a:cubicBezTo>
                  <a:pt x="1574" y="504"/>
                  <a:pt x="1619" y="533"/>
                  <a:pt x="1619" y="533"/>
                </a:cubicBezTo>
                <a:cubicBezTo>
                  <a:pt x="1648" y="620"/>
                  <a:pt x="1595" y="658"/>
                  <a:pt x="1519" y="677"/>
                </a:cubicBezTo>
                <a:cubicBezTo>
                  <a:pt x="1497" y="692"/>
                  <a:pt x="1474" y="707"/>
                  <a:pt x="1452" y="722"/>
                </a:cubicBezTo>
                <a:cubicBezTo>
                  <a:pt x="1432" y="735"/>
                  <a:pt x="1430" y="789"/>
                  <a:pt x="1430" y="789"/>
                </a:cubicBezTo>
                <a:cubicBezTo>
                  <a:pt x="1468" y="846"/>
                  <a:pt x="1522" y="879"/>
                  <a:pt x="1586" y="900"/>
                </a:cubicBezTo>
                <a:cubicBezTo>
                  <a:pt x="1629" y="929"/>
                  <a:pt x="1646" y="916"/>
                  <a:pt x="1663" y="966"/>
                </a:cubicBezTo>
                <a:cubicBezTo>
                  <a:pt x="1638" y="1118"/>
                  <a:pt x="1601" y="1067"/>
                  <a:pt x="1419" y="1077"/>
                </a:cubicBezTo>
                <a:cubicBezTo>
                  <a:pt x="1392" y="1161"/>
                  <a:pt x="1419" y="1062"/>
                  <a:pt x="1419" y="1233"/>
                </a:cubicBezTo>
                <a:cubicBezTo>
                  <a:pt x="1419" y="1259"/>
                  <a:pt x="1427" y="1292"/>
                  <a:pt x="1408" y="1311"/>
                </a:cubicBezTo>
                <a:cubicBezTo>
                  <a:pt x="1389" y="1330"/>
                  <a:pt x="1356" y="1318"/>
                  <a:pt x="1330" y="1322"/>
                </a:cubicBezTo>
                <a:cubicBezTo>
                  <a:pt x="1212" y="1311"/>
                  <a:pt x="1204" y="1338"/>
                  <a:pt x="1163" y="1255"/>
                </a:cubicBezTo>
                <a:cubicBezTo>
                  <a:pt x="1146" y="1220"/>
                  <a:pt x="1074" y="1177"/>
                  <a:pt x="1074" y="1177"/>
                </a:cubicBezTo>
                <a:cubicBezTo>
                  <a:pt x="1036" y="1185"/>
                  <a:pt x="1013" y="1184"/>
                  <a:pt x="985" y="1211"/>
                </a:cubicBezTo>
                <a:cubicBezTo>
                  <a:pt x="951" y="1245"/>
                  <a:pt x="948" y="1302"/>
                  <a:pt x="908" y="1333"/>
                </a:cubicBezTo>
                <a:cubicBezTo>
                  <a:pt x="895" y="1344"/>
                  <a:pt x="818" y="1370"/>
                  <a:pt x="797" y="1377"/>
                </a:cubicBezTo>
                <a:cubicBezTo>
                  <a:pt x="767" y="1372"/>
                  <a:pt x="713" y="1380"/>
                  <a:pt x="708" y="1333"/>
                </a:cubicBezTo>
                <a:cubicBezTo>
                  <a:pt x="706" y="1311"/>
                  <a:pt x="714" y="1288"/>
                  <a:pt x="719" y="1266"/>
                </a:cubicBezTo>
                <a:cubicBezTo>
                  <a:pt x="725" y="1243"/>
                  <a:pt x="741" y="1200"/>
                  <a:pt x="741" y="1200"/>
                </a:cubicBezTo>
                <a:cubicBezTo>
                  <a:pt x="694" y="1128"/>
                  <a:pt x="649" y="1158"/>
                  <a:pt x="563" y="1166"/>
                </a:cubicBezTo>
                <a:cubicBezTo>
                  <a:pt x="503" y="1186"/>
                  <a:pt x="468" y="1235"/>
                  <a:pt x="408" y="1255"/>
                </a:cubicBezTo>
                <a:cubicBezTo>
                  <a:pt x="363" y="1251"/>
                  <a:pt x="315" y="1262"/>
                  <a:pt x="274" y="1244"/>
                </a:cubicBezTo>
                <a:cubicBezTo>
                  <a:pt x="245" y="1231"/>
                  <a:pt x="229" y="1175"/>
                  <a:pt x="219" y="1144"/>
                </a:cubicBezTo>
                <a:cubicBezTo>
                  <a:pt x="234" y="977"/>
                  <a:pt x="228" y="1063"/>
                  <a:pt x="263" y="955"/>
                </a:cubicBezTo>
                <a:cubicBezTo>
                  <a:pt x="259" y="940"/>
                  <a:pt x="260" y="924"/>
                  <a:pt x="252" y="911"/>
                </a:cubicBezTo>
                <a:cubicBezTo>
                  <a:pt x="240" y="893"/>
                  <a:pt x="184" y="862"/>
                  <a:pt x="163" y="855"/>
                </a:cubicBezTo>
                <a:cubicBezTo>
                  <a:pt x="152" y="844"/>
                  <a:pt x="143" y="831"/>
                  <a:pt x="130" y="822"/>
                </a:cubicBezTo>
                <a:cubicBezTo>
                  <a:pt x="120" y="815"/>
                  <a:pt x="105" y="818"/>
                  <a:pt x="96" y="811"/>
                </a:cubicBezTo>
                <a:cubicBezTo>
                  <a:pt x="71" y="792"/>
                  <a:pt x="30" y="744"/>
                  <a:pt x="30" y="744"/>
                </a:cubicBezTo>
                <a:cubicBezTo>
                  <a:pt x="12" y="690"/>
                  <a:pt x="0" y="654"/>
                  <a:pt x="63" y="633"/>
                </a:cubicBezTo>
                <a:cubicBezTo>
                  <a:pt x="153" y="543"/>
                  <a:pt x="228" y="657"/>
                  <a:pt x="297" y="555"/>
                </a:cubicBezTo>
                <a:cubicBezTo>
                  <a:pt x="324" y="475"/>
                  <a:pt x="342" y="376"/>
                  <a:pt x="274" y="311"/>
                </a:cubicBezTo>
                <a:cubicBezTo>
                  <a:pt x="259" y="251"/>
                  <a:pt x="236" y="206"/>
                  <a:pt x="285" y="155"/>
                </a:cubicBezTo>
                <a:cubicBezTo>
                  <a:pt x="322" y="159"/>
                  <a:pt x="360" y="157"/>
                  <a:pt x="397" y="166"/>
                </a:cubicBezTo>
                <a:cubicBezTo>
                  <a:pt x="448" y="178"/>
                  <a:pt x="461" y="247"/>
                  <a:pt x="519" y="266"/>
                </a:cubicBezTo>
                <a:cubicBezTo>
                  <a:pt x="581" y="251"/>
                  <a:pt x="566" y="240"/>
                  <a:pt x="608" y="200"/>
                </a:cubicBezTo>
                <a:cubicBezTo>
                  <a:pt x="622" y="144"/>
                  <a:pt x="614" y="132"/>
                  <a:pt x="663" y="100"/>
                </a:cubicBezTo>
                <a:cubicBezTo>
                  <a:pt x="727" y="118"/>
                  <a:pt x="752" y="123"/>
                  <a:pt x="797" y="166"/>
                </a:cubicBezTo>
                <a:cubicBezTo>
                  <a:pt x="812" y="211"/>
                  <a:pt x="830" y="218"/>
                  <a:pt x="874" y="233"/>
                </a:cubicBezTo>
                <a:cubicBezTo>
                  <a:pt x="934" y="176"/>
                  <a:pt x="885" y="115"/>
                  <a:pt x="885" y="44"/>
                </a:cubicBezTo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749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241760" y="360216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R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0" y="4643280"/>
            <a:ext cx="990720" cy="838080"/>
            <a:chOff x="0" y="4643280"/>
            <a:chExt cx="990720" cy="838080"/>
          </a:xfrm>
        </p:grpSpPr>
        <p:sp>
          <p:nvSpPr>
            <p:cNvPr id="262" name=""/>
            <p:cNvSpPr/>
            <p:nvPr/>
          </p:nvSpPr>
          <p:spPr>
            <a:xfrm>
              <a:off x="0" y="4739760"/>
              <a:ext cx="990720" cy="677160"/>
            </a:xfrm>
            <a:prstGeom prst="rect">
              <a:avLst/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0" y="4643280"/>
              <a:ext cx="990720" cy="19332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5288040"/>
              <a:ext cx="990720" cy="193320"/>
            </a:xfrm>
            <a:prstGeom prst="ellipse">
              <a:avLst/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0" y="5710320"/>
            <a:ext cx="990720" cy="838080"/>
            <a:chOff x="0" y="5710320"/>
            <a:chExt cx="990720" cy="838080"/>
          </a:xfrm>
        </p:grpSpPr>
        <p:sp>
          <p:nvSpPr>
            <p:cNvPr id="266" name=""/>
            <p:cNvSpPr/>
            <p:nvPr/>
          </p:nvSpPr>
          <p:spPr>
            <a:xfrm>
              <a:off x="0" y="5806800"/>
              <a:ext cx="990720" cy="676800"/>
            </a:xfrm>
            <a:prstGeom prst="rect">
              <a:avLst/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5710320"/>
              <a:ext cx="990720" cy="19332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6355080"/>
              <a:ext cx="990720" cy="193320"/>
            </a:xfrm>
            <a:prstGeom prst="ellipse">
              <a:avLst/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990720" y="6014880"/>
            <a:ext cx="990360" cy="838080"/>
            <a:chOff x="990720" y="6014880"/>
            <a:chExt cx="990360" cy="838080"/>
          </a:xfrm>
        </p:grpSpPr>
        <p:sp>
          <p:nvSpPr>
            <p:cNvPr id="270" name=""/>
            <p:cNvSpPr/>
            <p:nvPr/>
          </p:nvSpPr>
          <p:spPr>
            <a:xfrm>
              <a:off x="990720" y="6111360"/>
              <a:ext cx="990360" cy="677160"/>
            </a:xfrm>
            <a:prstGeom prst="rect">
              <a:avLst/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90720" y="6014880"/>
              <a:ext cx="990360" cy="19332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90720" y="6659640"/>
              <a:ext cx="990360" cy="193320"/>
            </a:xfrm>
            <a:prstGeom prst="ellipse">
              <a:avLst/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2666880" y="4262400"/>
            <a:ext cx="76212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95480" y="4643280"/>
            <a:ext cx="76212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3576600"/>
            <a:ext cx="1905120" cy="2057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5253120"/>
            <a:ext cx="762120" cy="76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13520" y="3500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１９９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3881520"/>
            <a:ext cx="1905120" cy="2057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65800" y="3805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１９９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0" y="4724280"/>
            <a:ext cx="99072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DB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ホー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ペー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4203720"/>
            <a:ext cx="2590920" cy="2226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１９９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加藤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, 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 of Web”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. AB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山田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,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666880" y="4572000"/>
            <a:ext cx="228600" cy="385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5481720"/>
            <a:ext cx="30492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124080" y="4795560"/>
            <a:ext cx="30492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6720" y="5557680"/>
            <a:ext cx="45720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63400" y="37069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61760" y="2662200"/>
            <a:ext cx="5331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90360" y="2662200"/>
            <a:ext cx="685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14400" y="2971800"/>
            <a:ext cx="990720" cy="28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523520" y="2662200"/>
            <a:ext cx="76212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124080" y="2662200"/>
            <a:ext cx="763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00800" y="2662200"/>
            <a:ext cx="9907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30800" y="21733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38880" y="4110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48520" y="4044960"/>
            <a:ext cx="2895480" cy="221616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3728880"/>
            <a:ext cx="2895480" cy="63360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48520" y="5919840"/>
            <a:ext cx="2895480" cy="633240"/>
          </a:xfrm>
          <a:prstGeom prst="ellipse">
            <a:avLst/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23276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318360" y="4414680"/>
            <a:ext cx="2819160" cy="1905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232760" y="44146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147160" y="44146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18360" y="494820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18360" y="50245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18360" y="54817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318360" y="59389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26000" y="4968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加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41840" y="548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山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17800" y="4414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名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56240" y="4414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学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70640" y="4414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住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10520" y="5045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95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10520" y="55022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96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70640" y="5024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筑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270640" y="548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尼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666960" y="4633920"/>
            <a:ext cx="2428920" cy="2219400"/>
            <a:chOff x="3666960" y="4633920"/>
            <a:chExt cx="2428920" cy="2219400"/>
          </a:xfrm>
        </p:grpSpPr>
        <p:sp>
          <p:nvSpPr>
            <p:cNvPr id="316" name=""/>
            <p:cNvSpPr/>
            <p:nvPr/>
          </p:nvSpPr>
          <p:spPr>
            <a:xfrm>
              <a:off x="3668760" y="4633920"/>
              <a:ext cx="2114640" cy="1730520"/>
            </a:xfrm>
            <a:custGeom>
              <a:avLst/>
              <a:gdLst/>
              <a:ahLst/>
              <a:rect l="l" t="t" r="r" b="b"/>
              <a:pathLst>
                <a:path w="1332" h="1090">
                  <a:moveTo>
                    <a:pt x="345" y="0"/>
                  </a:moveTo>
                  <a:cubicBezTo>
                    <a:pt x="334" y="4"/>
                    <a:pt x="323" y="9"/>
                    <a:pt x="312" y="11"/>
                  </a:cubicBezTo>
                  <a:cubicBezTo>
                    <a:pt x="290" y="16"/>
                    <a:pt x="267" y="16"/>
                    <a:pt x="245" y="22"/>
                  </a:cubicBezTo>
                  <a:cubicBezTo>
                    <a:pt x="229" y="27"/>
                    <a:pt x="214" y="36"/>
                    <a:pt x="200" y="44"/>
                  </a:cubicBezTo>
                  <a:cubicBezTo>
                    <a:pt x="188" y="51"/>
                    <a:pt x="180" y="63"/>
                    <a:pt x="167" y="67"/>
                  </a:cubicBezTo>
                  <a:cubicBezTo>
                    <a:pt x="146" y="74"/>
                    <a:pt x="122" y="74"/>
                    <a:pt x="100" y="78"/>
                  </a:cubicBezTo>
                  <a:cubicBezTo>
                    <a:pt x="56" y="122"/>
                    <a:pt x="63" y="105"/>
                    <a:pt x="45" y="178"/>
                  </a:cubicBezTo>
                  <a:cubicBezTo>
                    <a:pt x="34" y="222"/>
                    <a:pt x="12" y="311"/>
                    <a:pt x="12" y="311"/>
                  </a:cubicBezTo>
                  <a:cubicBezTo>
                    <a:pt x="8" y="367"/>
                    <a:pt x="0" y="422"/>
                    <a:pt x="0" y="478"/>
                  </a:cubicBezTo>
                  <a:cubicBezTo>
                    <a:pt x="0" y="609"/>
                    <a:pt x="41" y="740"/>
                    <a:pt x="134" y="833"/>
                  </a:cubicBezTo>
                  <a:cubicBezTo>
                    <a:pt x="143" y="842"/>
                    <a:pt x="157" y="847"/>
                    <a:pt x="167" y="855"/>
                  </a:cubicBezTo>
                  <a:cubicBezTo>
                    <a:pt x="175" y="862"/>
                    <a:pt x="182" y="870"/>
                    <a:pt x="189" y="878"/>
                  </a:cubicBezTo>
                  <a:cubicBezTo>
                    <a:pt x="207" y="933"/>
                    <a:pt x="198" y="928"/>
                    <a:pt x="278" y="967"/>
                  </a:cubicBezTo>
                  <a:cubicBezTo>
                    <a:pt x="436" y="1045"/>
                    <a:pt x="591" y="1056"/>
                    <a:pt x="767" y="1067"/>
                  </a:cubicBezTo>
                  <a:cubicBezTo>
                    <a:pt x="1083" y="1054"/>
                    <a:pt x="988" y="1090"/>
                    <a:pt x="1145" y="1011"/>
                  </a:cubicBezTo>
                  <a:cubicBezTo>
                    <a:pt x="1222" y="895"/>
                    <a:pt x="1102" y="1071"/>
                    <a:pt x="1201" y="944"/>
                  </a:cubicBezTo>
                  <a:cubicBezTo>
                    <a:pt x="1217" y="923"/>
                    <a:pt x="1245" y="878"/>
                    <a:pt x="1245" y="878"/>
                  </a:cubicBezTo>
                  <a:cubicBezTo>
                    <a:pt x="1252" y="856"/>
                    <a:pt x="1260" y="833"/>
                    <a:pt x="1267" y="811"/>
                  </a:cubicBezTo>
                  <a:cubicBezTo>
                    <a:pt x="1271" y="800"/>
                    <a:pt x="1278" y="778"/>
                    <a:pt x="1278" y="778"/>
                  </a:cubicBezTo>
                  <a:cubicBezTo>
                    <a:pt x="1288" y="696"/>
                    <a:pt x="1304" y="627"/>
                    <a:pt x="1312" y="544"/>
                  </a:cubicBezTo>
                  <a:cubicBezTo>
                    <a:pt x="1306" y="455"/>
                    <a:pt x="1332" y="314"/>
                    <a:pt x="1223" y="278"/>
                  </a:cubicBezTo>
                  <a:cubicBezTo>
                    <a:pt x="1176" y="242"/>
                    <a:pt x="1124" y="207"/>
                    <a:pt x="1067" y="189"/>
                  </a:cubicBezTo>
                  <a:cubicBezTo>
                    <a:pt x="1014" y="154"/>
                    <a:pt x="976" y="154"/>
                    <a:pt x="912" y="133"/>
                  </a:cubicBezTo>
                  <a:cubicBezTo>
                    <a:pt x="851" y="113"/>
                    <a:pt x="808" y="99"/>
                    <a:pt x="745" y="89"/>
                  </a:cubicBezTo>
                  <a:cubicBezTo>
                    <a:pt x="705" y="76"/>
                    <a:pt x="724" y="78"/>
                    <a:pt x="689" y="78"/>
                  </a:cubicBezTo>
                </a:path>
              </a:pathLst>
            </a:custGeom>
            <a:noFill/>
            <a:ln w="7632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66960" y="6111720"/>
              <a:ext cx="2428920" cy="741600"/>
            </a:xfrm>
            <a:custGeom>
              <a:avLst/>
              <a:gdLst/>
              <a:ahLst/>
              <a:rect l="l" t="t" r="r" b="b"/>
              <a:pathLst>
                <a:path w="1590" h="585">
                  <a:moveTo>
                    <a:pt x="535" y="58"/>
                  </a:moveTo>
                  <a:cubicBezTo>
                    <a:pt x="437" y="64"/>
                    <a:pt x="310" y="59"/>
                    <a:pt x="213" y="91"/>
                  </a:cubicBezTo>
                  <a:cubicBezTo>
                    <a:pt x="148" y="153"/>
                    <a:pt x="236" y="75"/>
                    <a:pt x="157" y="124"/>
                  </a:cubicBezTo>
                  <a:cubicBezTo>
                    <a:pt x="83" y="170"/>
                    <a:pt x="194" y="128"/>
                    <a:pt x="101" y="158"/>
                  </a:cubicBezTo>
                  <a:cubicBezTo>
                    <a:pt x="90" y="169"/>
                    <a:pt x="81" y="182"/>
                    <a:pt x="68" y="191"/>
                  </a:cubicBezTo>
                  <a:cubicBezTo>
                    <a:pt x="58" y="197"/>
                    <a:pt x="43" y="194"/>
                    <a:pt x="35" y="202"/>
                  </a:cubicBezTo>
                  <a:cubicBezTo>
                    <a:pt x="24" y="213"/>
                    <a:pt x="7" y="262"/>
                    <a:pt x="1" y="280"/>
                  </a:cubicBezTo>
                  <a:cubicBezTo>
                    <a:pt x="1" y="284"/>
                    <a:pt x="0" y="395"/>
                    <a:pt x="35" y="413"/>
                  </a:cubicBezTo>
                  <a:cubicBezTo>
                    <a:pt x="101" y="446"/>
                    <a:pt x="295" y="488"/>
                    <a:pt x="368" y="491"/>
                  </a:cubicBezTo>
                  <a:cubicBezTo>
                    <a:pt x="590" y="501"/>
                    <a:pt x="1035" y="513"/>
                    <a:pt x="1035" y="513"/>
                  </a:cubicBezTo>
                  <a:cubicBezTo>
                    <a:pt x="1066" y="512"/>
                    <a:pt x="1483" y="585"/>
                    <a:pt x="1568" y="458"/>
                  </a:cubicBezTo>
                  <a:cubicBezTo>
                    <a:pt x="1590" y="389"/>
                    <a:pt x="1586" y="318"/>
                    <a:pt x="1546" y="258"/>
                  </a:cubicBezTo>
                  <a:cubicBezTo>
                    <a:pt x="1517" y="170"/>
                    <a:pt x="1564" y="297"/>
                    <a:pt x="1479" y="169"/>
                  </a:cubicBezTo>
                  <a:cubicBezTo>
                    <a:pt x="1366" y="0"/>
                    <a:pt x="1130" y="36"/>
                    <a:pt x="957" y="2"/>
                  </a:cubicBezTo>
                  <a:cubicBezTo>
                    <a:pt x="620" y="13"/>
                    <a:pt x="735" y="13"/>
                    <a:pt x="613" y="13"/>
                  </a:cubicBezTo>
                </a:path>
              </a:pathLst>
            </a:custGeom>
            <a:noFill/>
            <a:ln w="7632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6768360" y="63388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ＤＢ研構成員情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57200" y="2925720"/>
            <a:ext cx="197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Times New Roman"/>
              </a:rPr>
              <a:t>年度別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論文リス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78160" y="2330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1981080"/>
            <a:ext cx="8077320" cy="97812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統合利用環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06640" y="136440"/>
            <a:ext cx="8758080" cy="2913480"/>
            <a:chOff x="206640" y="136440"/>
            <a:chExt cx="8758080" cy="2913480"/>
          </a:xfrm>
        </p:grpSpPr>
        <p:grpSp>
          <p:nvGrpSpPr>
            <p:cNvPr id="323" name=""/>
            <p:cNvGrpSpPr/>
            <p:nvPr/>
          </p:nvGrpSpPr>
          <p:grpSpPr>
            <a:xfrm>
              <a:off x="1143000" y="533520"/>
              <a:ext cx="6781680" cy="2516400"/>
              <a:chOff x="1143000" y="533520"/>
              <a:chExt cx="6781680" cy="2516400"/>
            </a:xfrm>
          </p:grpSpPr>
          <p:sp>
            <p:nvSpPr>
              <p:cNvPr id="324" name=""/>
              <p:cNvSpPr/>
              <p:nvPr/>
            </p:nvSpPr>
            <p:spPr>
              <a:xfrm>
                <a:off x="3581280" y="533520"/>
                <a:ext cx="2819520" cy="2133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581280" y="53352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Times New Roman"/>
                  </a:rPr>
                  <a:t>山田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572000" y="762120"/>
                <a:ext cx="3352680" cy="2287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Times New Roman"/>
                  </a:rPr>
                  <a:t>加藤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Times New Roman"/>
                  </a:rPr>
                  <a:t>“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tegration of Web,” Proc.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AB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“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Querying The Web,” Proc.Hal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1143000" y="1359000"/>
                <a:ext cx="3124080" cy="1447560"/>
                <a:chOff x="1143000" y="1359000"/>
                <a:chExt cx="3124080" cy="14475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1143000" y="1359000"/>
                  <a:ext cx="3124080" cy="14475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517040" y="1459080"/>
                  <a:ext cx="1247400" cy="94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2800" spc="-1" strike="noStrike">
                      <a:solidFill>
                        <a:srgbClr val="000000"/>
                      </a:solidFill>
                      <a:latin typeface="Times New Roman"/>
                    </a:rPr>
                    <a:t>山田，尼崎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2800" spc="-1" strike="noStrike">
                      <a:solidFill>
                        <a:srgbClr val="000000"/>
                      </a:solidFill>
                      <a:latin typeface="Times New Roman"/>
                    </a:rPr>
                    <a:t>加藤，筑波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 flipV="1">
                <a:off x="3200400" y="901440"/>
                <a:ext cx="914400" cy="850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3124080" y="1510920"/>
                <a:ext cx="144792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206640" y="136440"/>
              <a:ext cx="8758080" cy="1008000"/>
              <a:chOff x="206640" y="136440"/>
              <a:chExt cx="8758080" cy="1008000"/>
            </a:xfrm>
          </p:grpSpPr>
          <p:sp>
            <p:nvSpPr>
              <p:cNvPr id="333" name=""/>
              <p:cNvSpPr/>
              <p:nvPr/>
            </p:nvSpPr>
            <p:spPr>
              <a:xfrm>
                <a:off x="6385320" y="136440"/>
                <a:ext cx="2579400" cy="100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3200" spc="-1" strike="noStrike">
                    <a:solidFill>
                      <a:srgbClr val="ff0000"/>
                    </a:solidFill>
                    <a:latin typeface="Times New Roman"/>
                  </a:rPr>
                  <a:t>著者別</a:t>
                </a:r>
                <a:r>
                  <a:rPr b="0" lang="ja-JP" sz="2800" spc="-1" strike="noStrike">
                    <a:solidFill>
                      <a:srgbClr val="ff0000"/>
                    </a:solidFill>
                    <a:latin typeface="Times New Roman"/>
                  </a:rPr>
                  <a:t>論文リスト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ff0000"/>
                    </a:solidFill>
                    <a:latin typeface="Times New Roman"/>
                  </a:rPr>
                  <a:t>                  </a:t>
                </a:r>
                <a:r>
                  <a:rPr b="0" lang="ja-JP" sz="2800" spc="-1" strike="noStrike">
                    <a:solidFill>
                      <a:srgbClr val="ff0000"/>
                    </a:solidFill>
                    <a:latin typeface="Times New Roman"/>
                  </a:rPr>
                  <a:t>ページ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06640" y="611280"/>
                <a:ext cx="294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ff0000"/>
                    </a:solidFill>
                    <a:latin typeface="Times New Roman"/>
                  </a:rPr>
                  <a:t>インデックス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Times New Roman"/>
                  </a:rPr>
                  <a:t>Web</a:t>
                </a:r>
                <a:r>
                  <a:rPr b="0" lang="ja-JP" sz="2800" spc="-1" strike="noStrike">
                    <a:solidFill>
                      <a:srgbClr val="ff0000"/>
                    </a:solidFill>
                    <a:latin typeface="Times New Roman"/>
                  </a:rPr>
                  <a:t>ページ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5" name=""/>
          <p:cNvSpPr/>
          <p:nvPr/>
        </p:nvSpPr>
        <p:spPr>
          <a:xfrm>
            <a:off x="1275120" y="763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66"/>
                </a:solidFill>
                <a:latin typeface="Times New Roman"/>
              </a:rPr>
              <a:t>どのような統合利用を行いたいの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225960" y="1138320"/>
            <a:ext cx="1955520" cy="5257800"/>
            <a:chOff x="3225960" y="1138320"/>
            <a:chExt cx="1955520" cy="5257800"/>
          </a:xfrm>
        </p:grpSpPr>
        <p:sp>
          <p:nvSpPr>
            <p:cNvPr id="337" name=""/>
            <p:cNvSpPr/>
            <p:nvPr/>
          </p:nvSpPr>
          <p:spPr>
            <a:xfrm>
              <a:off x="3962520" y="1824120"/>
              <a:ext cx="1218960" cy="2895480"/>
            </a:xfrm>
            <a:custGeom>
              <a:avLst/>
              <a:gdLst/>
              <a:ahLst/>
              <a:rect l="l" t="t" r="r" b="b"/>
              <a:pathLst>
                <a:path w="768" h="2080">
                  <a:moveTo>
                    <a:pt x="0" y="2080"/>
                  </a:moveTo>
                  <a:cubicBezTo>
                    <a:pt x="64" y="1712"/>
                    <a:pt x="128" y="1344"/>
                    <a:pt x="192" y="1024"/>
                  </a:cubicBezTo>
                  <a:cubicBezTo>
                    <a:pt x="256" y="704"/>
                    <a:pt x="288" y="320"/>
                    <a:pt x="384" y="160"/>
                  </a:cubicBezTo>
                  <a:cubicBezTo>
                    <a:pt x="480" y="0"/>
                    <a:pt x="624" y="32"/>
                    <a:pt x="768" y="64"/>
                  </a:cubicBezTo>
                </a:path>
              </a:pathLst>
            </a:custGeom>
            <a:noFill/>
            <a:ln w="76320">
              <a:solidFill>
                <a:srgbClr val="cc00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25960" y="1138320"/>
              <a:ext cx="1041120" cy="5257800"/>
            </a:xfrm>
            <a:custGeom>
              <a:avLst/>
              <a:gdLst/>
              <a:ahLst/>
              <a:rect l="l" t="t" r="r" b="b"/>
              <a:pathLst>
                <a:path w="560" h="3216">
                  <a:moveTo>
                    <a:pt x="272" y="3216"/>
                  </a:moveTo>
                  <a:cubicBezTo>
                    <a:pt x="168" y="3012"/>
                    <a:pt x="64" y="2808"/>
                    <a:pt x="32" y="2544"/>
                  </a:cubicBezTo>
                  <a:cubicBezTo>
                    <a:pt x="0" y="2280"/>
                    <a:pt x="16" y="2008"/>
                    <a:pt x="80" y="1632"/>
                  </a:cubicBezTo>
                  <a:cubicBezTo>
                    <a:pt x="144" y="1256"/>
                    <a:pt x="336" y="560"/>
                    <a:pt x="416" y="288"/>
                  </a:cubicBezTo>
                  <a:cubicBezTo>
                    <a:pt x="496" y="16"/>
                    <a:pt x="536" y="56"/>
                    <a:pt x="560" y="0"/>
                  </a:cubicBezTo>
                </a:path>
              </a:pathLst>
            </a:custGeom>
            <a:noFill/>
            <a:ln w="76320">
              <a:solidFill>
                <a:srgbClr val="cc00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435480" y="393840"/>
            <a:ext cx="4279320" cy="1716120"/>
            <a:chOff x="3435480" y="393840"/>
            <a:chExt cx="4279320" cy="1716120"/>
          </a:xfrm>
        </p:grpSpPr>
        <p:sp>
          <p:nvSpPr>
            <p:cNvPr id="340" name=""/>
            <p:cNvSpPr/>
            <p:nvPr/>
          </p:nvSpPr>
          <p:spPr>
            <a:xfrm>
              <a:off x="3435480" y="393840"/>
              <a:ext cx="1474560" cy="1036440"/>
            </a:xfrm>
            <a:custGeom>
              <a:avLst/>
              <a:gdLst/>
              <a:ahLst/>
              <a:rect l="l" t="t" r="r" b="b"/>
              <a:pathLst>
                <a:path w="929" h="653">
                  <a:moveTo>
                    <a:pt x="229" y="0"/>
                  </a:moveTo>
                  <a:cubicBezTo>
                    <a:pt x="218" y="7"/>
                    <a:pt x="208" y="17"/>
                    <a:pt x="196" y="22"/>
                  </a:cubicBezTo>
                  <a:cubicBezTo>
                    <a:pt x="174" y="31"/>
                    <a:pt x="129" y="44"/>
                    <a:pt x="129" y="44"/>
                  </a:cubicBezTo>
                  <a:cubicBezTo>
                    <a:pt x="86" y="73"/>
                    <a:pt x="49" y="105"/>
                    <a:pt x="7" y="133"/>
                  </a:cubicBezTo>
                  <a:cubicBezTo>
                    <a:pt x="15" y="278"/>
                    <a:pt x="0" y="436"/>
                    <a:pt x="163" y="489"/>
                  </a:cubicBezTo>
                  <a:cubicBezTo>
                    <a:pt x="174" y="500"/>
                    <a:pt x="182" y="515"/>
                    <a:pt x="196" y="522"/>
                  </a:cubicBezTo>
                  <a:cubicBezTo>
                    <a:pt x="217" y="533"/>
                    <a:pt x="263" y="544"/>
                    <a:pt x="263" y="544"/>
                  </a:cubicBezTo>
                  <a:cubicBezTo>
                    <a:pt x="296" y="578"/>
                    <a:pt x="339" y="579"/>
                    <a:pt x="385" y="589"/>
                  </a:cubicBezTo>
                  <a:cubicBezTo>
                    <a:pt x="422" y="597"/>
                    <a:pt x="496" y="611"/>
                    <a:pt x="496" y="611"/>
                  </a:cubicBezTo>
                  <a:cubicBezTo>
                    <a:pt x="686" y="604"/>
                    <a:pt x="765" y="653"/>
                    <a:pt x="874" y="544"/>
                  </a:cubicBezTo>
                  <a:cubicBezTo>
                    <a:pt x="908" y="465"/>
                    <a:pt x="915" y="395"/>
                    <a:pt x="929" y="311"/>
                  </a:cubicBezTo>
                  <a:cubicBezTo>
                    <a:pt x="925" y="259"/>
                    <a:pt x="927" y="207"/>
                    <a:pt x="918" y="156"/>
                  </a:cubicBezTo>
                  <a:cubicBezTo>
                    <a:pt x="915" y="138"/>
                    <a:pt x="874" y="98"/>
                    <a:pt x="863" y="89"/>
                  </a:cubicBezTo>
                  <a:cubicBezTo>
                    <a:pt x="827" y="59"/>
                    <a:pt x="831" y="70"/>
                    <a:pt x="785" y="56"/>
                  </a:cubicBezTo>
                  <a:cubicBezTo>
                    <a:pt x="735" y="41"/>
                    <a:pt x="682" y="11"/>
                    <a:pt x="629" y="11"/>
                  </a:cubicBezTo>
                </a:path>
              </a:pathLst>
            </a:custGeom>
            <a:noFill/>
            <a:ln w="7632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040" y="673200"/>
              <a:ext cx="3371760" cy="1436760"/>
            </a:xfrm>
            <a:custGeom>
              <a:avLst/>
              <a:gdLst/>
              <a:ahLst/>
              <a:rect l="l" t="t" r="r" b="b"/>
              <a:pathLst>
                <a:path w="2000" h="859">
                  <a:moveTo>
                    <a:pt x="167" y="67"/>
                  </a:moveTo>
                  <a:cubicBezTo>
                    <a:pt x="108" y="86"/>
                    <a:pt x="142" y="72"/>
                    <a:pt x="67" y="122"/>
                  </a:cubicBezTo>
                  <a:cubicBezTo>
                    <a:pt x="56" y="130"/>
                    <a:pt x="33" y="145"/>
                    <a:pt x="33" y="145"/>
                  </a:cubicBezTo>
                  <a:cubicBezTo>
                    <a:pt x="8" y="196"/>
                    <a:pt x="0" y="199"/>
                    <a:pt x="0" y="267"/>
                  </a:cubicBezTo>
                  <a:cubicBezTo>
                    <a:pt x="0" y="393"/>
                    <a:pt x="4" y="519"/>
                    <a:pt x="11" y="645"/>
                  </a:cubicBezTo>
                  <a:cubicBezTo>
                    <a:pt x="14" y="705"/>
                    <a:pt x="78" y="731"/>
                    <a:pt x="122" y="756"/>
                  </a:cubicBezTo>
                  <a:cubicBezTo>
                    <a:pt x="215" y="810"/>
                    <a:pt x="316" y="832"/>
                    <a:pt x="422" y="845"/>
                  </a:cubicBezTo>
                  <a:cubicBezTo>
                    <a:pt x="980" y="834"/>
                    <a:pt x="919" y="859"/>
                    <a:pt x="1289" y="767"/>
                  </a:cubicBezTo>
                  <a:cubicBezTo>
                    <a:pt x="1383" y="720"/>
                    <a:pt x="1498" y="732"/>
                    <a:pt x="1600" y="722"/>
                  </a:cubicBezTo>
                  <a:cubicBezTo>
                    <a:pt x="1659" y="716"/>
                    <a:pt x="1778" y="700"/>
                    <a:pt x="1778" y="700"/>
                  </a:cubicBezTo>
                  <a:cubicBezTo>
                    <a:pt x="1850" y="682"/>
                    <a:pt x="1866" y="656"/>
                    <a:pt x="1922" y="600"/>
                  </a:cubicBezTo>
                  <a:cubicBezTo>
                    <a:pt x="1930" y="592"/>
                    <a:pt x="1945" y="578"/>
                    <a:pt x="1945" y="578"/>
                  </a:cubicBezTo>
                  <a:cubicBezTo>
                    <a:pt x="1964" y="540"/>
                    <a:pt x="1987" y="507"/>
                    <a:pt x="2000" y="467"/>
                  </a:cubicBezTo>
                  <a:cubicBezTo>
                    <a:pt x="1996" y="441"/>
                    <a:pt x="1996" y="414"/>
                    <a:pt x="1989" y="389"/>
                  </a:cubicBezTo>
                  <a:cubicBezTo>
                    <a:pt x="1967" y="307"/>
                    <a:pt x="1895" y="279"/>
                    <a:pt x="1822" y="267"/>
                  </a:cubicBezTo>
                  <a:cubicBezTo>
                    <a:pt x="1749" y="243"/>
                    <a:pt x="1676" y="235"/>
                    <a:pt x="1600" y="222"/>
                  </a:cubicBezTo>
                  <a:cubicBezTo>
                    <a:pt x="1521" y="182"/>
                    <a:pt x="1420" y="181"/>
                    <a:pt x="1333" y="167"/>
                  </a:cubicBezTo>
                  <a:cubicBezTo>
                    <a:pt x="1254" y="154"/>
                    <a:pt x="1179" y="133"/>
                    <a:pt x="1100" y="122"/>
                  </a:cubicBezTo>
                  <a:cubicBezTo>
                    <a:pt x="1078" y="115"/>
                    <a:pt x="1055" y="107"/>
                    <a:pt x="1033" y="100"/>
                  </a:cubicBezTo>
                  <a:cubicBezTo>
                    <a:pt x="990" y="86"/>
                    <a:pt x="900" y="67"/>
                    <a:pt x="900" y="67"/>
                  </a:cubicBezTo>
                  <a:cubicBezTo>
                    <a:pt x="865" y="50"/>
                    <a:pt x="828" y="28"/>
                    <a:pt x="789" y="22"/>
                  </a:cubicBezTo>
                  <a:cubicBezTo>
                    <a:pt x="745" y="15"/>
                    <a:pt x="656" y="0"/>
                    <a:pt x="656" y="0"/>
                  </a:cubicBezTo>
                  <a:cubicBezTo>
                    <a:pt x="603" y="7"/>
                    <a:pt x="567" y="10"/>
                    <a:pt x="522" y="33"/>
                  </a:cubicBezTo>
                </a:path>
              </a:pathLst>
            </a:custGeom>
            <a:noFill/>
            <a:ln w="7632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000160" y="1498680"/>
            <a:ext cx="7290000" cy="4616280"/>
            <a:chOff x="2000160" y="1498680"/>
            <a:chExt cx="7290000" cy="4616280"/>
          </a:xfrm>
        </p:grpSpPr>
        <p:sp>
          <p:nvSpPr>
            <p:cNvPr id="343" name=""/>
            <p:cNvSpPr/>
            <p:nvPr/>
          </p:nvSpPr>
          <p:spPr>
            <a:xfrm>
              <a:off x="8045280" y="4775400"/>
              <a:ext cx="1244880" cy="1339560"/>
            </a:xfrm>
            <a:custGeom>
              <a:avLst/>
              <a:gdLst/>
              <a:ahLst/>
              <a:rect l="l" t="t" r="r" b="b"/>
              <a:pathLst>
                <a:path w="784" h="844">
                  <a:moveTo>
                    <a:pt x="266" y="0"/>
                  </a:moveTo>
                  <a:cubicBezTo>
                    <a:pt x="263" y="1"/>
                    <a:pt x="195" y="17"/>
                    <a:pt x="188" y="22"/>
                  </a:cubicBezTo>
                  <a:cubicBezTo>
                    <a:pt x="178" y="30"/>
                    <a:pt x="175" y="46"/>
                    <a:pt x="166" y="55"/>
                  </a:cubicBezTo>
                  <a:cubicBezTo>
                    <a:pt x="157" y="65"/>
                    <a:pt x="143" y="69"/>
                    <a:pt x="133" y="78"/>
                  </a:cubicBezTo>
                  <a:cubicBezTo>
                    <a:pt x="79" y="126"/>
                    <a:pt x="82" y="126"/>
                    <a:pt x="44" y="178"/>
                  </a:cubicBezTo>
                  <a:cubicBezTo>
                    <a:pt x="35" y="328"/>
                    <a:pt x="0" y="507"/>
                    <a:pt x="77" y="644"/>
                  </a:cubicBezTo>
                  <a:cubicBezTo>
                    <a:pt x="106" y="696"/>
                    <a:pt x="152" y="787"/>
                    <a:pt x="210" y="811"/>
                  </a:cubicBezTo>
                  <a:cubicBezTo>
                    <a:pt x="238" y="823"/>
                    <a:pt x="269" y="826"/>
                    <a:pt x="299" y="833"/>
                  </a:cubicBezTo>
                  <a:cubicBezTo>
                    <a:pt x="314" y="837"/>
                    <a:pt x="344" y="844"/>
                    <a:pt x="344" y="844"/>
                  </a:cubicBezTo>
                  <a:cubicBezTo>
                    <a:pt x="445" y="836"/>
                    <a:pt x="526" y="827"/>
                    <a:pt x="622" y="800"/>
                  </a:cubicBezTo>
                  <a:cubicBezTo>
                    <a:pt x="633" y="789"/>
                    <a:pt x="645" y="778"/>
                    <a:pt x="655" y="766"/>
                  </a:cubicBezTo>
                  <a:cubicBezTo>
                    <a:pt x="675" y="741"/>
                    <a:pt x="711" y="689"/>
                    <a:pt x="711" y="689"/>
                  </a:cubicBezTo>
                  <a:cubicBezTo>
                    <a:pt x="719" y="628"/>
                    <a:pt x="733" y="521"/>
                    <a:pt x="733" y="466"/>
                  </a:cubicBezTo>
                  <a:cubicBezTo>
                    <a:pt x="733" y="227"/>
                    <a:pt x="784" y="184"/>
                    <a:pt x="655" y="78"/>
                  </a:cubicBezTo>
                  <a:cubicBezTo>
                    <a:pt x="647" y="71"/>
                    <a:pt x="643" y="58"/>
                    <a:pt x="633" y="55"/>
                  </a:cubicBezTo>
                  <a:cubicBezTo>
                    <a:pt x="601" y="46"/>
                    <a:pt x="566" y="46"/>
                    <a:pt x="533" y="44"/>
                  </a:cubicBezTo>
                  <a:cubicBezTo>
                    <a:pt x="488" y="42"/>
                    <a:pt x="444" y="44"/>
                    <a:pt x="399" y="4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00160" y="1498680"/>
              <a:ext cx="1265400" cy="1071720"/>
            </a:xfrm>
            <a:custGeom>
              <a:avLst/>
              <a:gdLst/>
              <a:ahLst/>
              <a:rect l="l" t="t" r="r" b="b"/>
              <a:pathLst>
                <a:path w="797" h="675">
                  <a:moveTo>
                    <a:pt x="396" y="31"/>
                  </a:moveTo>
                  <a:cubicBezTo>
                    <a:pt x="351" y="33"/>
                    <a:pt x="193" y="0"/>
                    <a:pt x="129" y="64"/>
                  </a:cubicBezTo>
                  <a:cubicBezTo>
                    <a:pt x="109" y="84"/>
                    <a:pt x="92" y="108"/>
                    <a:pt x="74" y="131"/>
                  </a:cubicBezTo>
                  <a:cubicBezTo>
                    <a:pt x="58" y="152"/>
                    <a:pt x="29" y="197"/>
                    <a:pt x="29" y="197"/>
                  </a:cubicBezTo>
                  <a:cubicBezTo>
                    <a:pt x="7" y="286"/>
                    <a:pt x="0" y="298"/>
                    <a:pt x="29" y="431"/>
                  </a:cubicBezTo>
                  <a:cubicBezTo>
                    <a:pt x="39" y="477"/>
                    <a:pt x="105" y="528"/>
                    <a:pt x="140" y="553"/>
                  </a:cubicBezTo>
                  <a:cubicBezTo>
                    <a:pt x="221" y="610"/>
                    <a:pt x="299" y="651"/>
                    <a:pt x="396" y="675"/>
                  </a:cubicBezTo>
                  <a:cubicBezTo>
                    <a:pt x="479" y="655"/>
                    <a:pt x="600" y="626"/>
                    <a:pt x="662" y="564"/>
                  </a:cubicBezTo>
                  <a:cubicBezTo>
                    <a:pt x="702" y="524"/>
                    <a:pt x="734" y="480"/>
                    <a:pt x="774" y="442"/>
                  </a:cubicBezTo>
                  <a:cubicBezTo>
                    <a:pt x="796" y="375"/>
                    <a:pt x="797" y="386"/>
                    <a:pt x="774" y="275"/>
                  </a:cubicBezTo>
                  <a:cubicBezTo>
                    <a:pt x="765" y="231"/>
                    <a:pt x="717" y="207"/>
                    <a:pt x="685" y="175"/>
                  </a:cubicBezTo>
                  <a:cubicBezTo>
                    <a:pt x="668" y="158"/>
                    <a:pt x="658" y="135"/>
                    <a:pt x="640" y="120"/>
                  </a:cubicBezTo>
                  <a:cubicBezTo>
                    <a:pt x="625" y="108"/>
                    <a:pt x="572" y="85"/>
                    <a:pt x="551" y="75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76720" y="1976400"/>
              <a:ext cx="4876560" cy="2971800"/>
            </a:xfrm>
            <a:custGeom>
              <a:avLst/>
              <a:gdLst/>
              <a:ahLst/>
              <a:rect l="l" t="t" r="r" b="b"/>
              <a:pathLst>
                <a:path w="3072" h="1872">
                  <a:moveTo>
                    <a:pt x="3072" y="1872"/>
                  </a:moveTo>
                  <a:cubicBezTo>
                    <a:pt x="3036" y="1624"/>
                    <a:pt x="3000" y="1376"/>
                    <a:pt x="2880" y="1152"/>
                  </a:cubicBezTo>
                  <a:cubicBezTo>
                    <a:pt x="2760" y="928"/>
                    <a:pt x="2696" y="704"/>
                    <a:pt x="2352" y="528"/>
                  </a:cubicBezTo>
                  <a:cubicBezTo>
                    <a:pt x="2008" y="352"/>
                    <a:pt x="1208" y="184"/>
                    <a:pt x="816" y="96"/>
                  </a:cubicBezTo>
                  <a:cubicBezTo>
                    <a:pt x="424" y="8"/>
                    <a:pt x="212" y="4"/>
                    <a:pt x="0" y="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prstDash val="sysDot"/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533520" y="2895480"/>
            <a:ext cx="3200400" cy="3048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2280" y="196920"/>
            <a:ext cx="33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WebNR/SD</a:t>
            </a:r>
            <a:r>
              <a:rPr b="0" lang="ja-JP" sz="3600" spc="-1" strike="noStrike">
                <a:solidFill>
                  <a:srgbClr val="000066"/>
                </a:solidFill>
                <a:latin typeface="Times New Roman"/>
              </a:rPr>
              <a:t>の特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36720" y="3422520"/>
            <a:ext cx="2743200" cy="2438640"/>
          </a:xfrm>
          <a:prstGeom prst="roundRect">
            <a:avLst>
              <a:gd name="adj" fmla="val 650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2590920" y="5632200"/>
            <a:ext cx="3045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59200" y="5991120"/>
            <a:ext cx="29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D</a:t>
            </a:r>
            <a:r>
              <a:rPr b="0" lang="ja-JP" sz="3200" spc="-1" strike="noStrike">
                <a:solidFill>
                  <a:srgbClr val="cc0000"/>
                </a:solidFill>
                <a:latin typeface="Times New Roman"/>
              </a:rPr>
              <a:t>値（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D</a:t>
            </a:r>
            <a:r>
              <a:rPr b="0" lang="ja-JP" sz="3200" spc="-1" strike="noStrike">
                <a:solidFill>
                  <a:srgbClr val="cc0000"/>
                </a:solidFill>
                <a:latin typeface="Times New Roman"/>
              </a:rPr>
              <a:t>型の値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31440" y="914400"/>
            <a:ext cx="563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入れ子型リレーション構造＋</a:t>
            </a:r>
            <a:r>
              <a:rPr b="1" lang="ja-JP" sz="2800" spc="-1" strike="noStrike">
                <a:solidFill>
                  <a:srgbClr val="cc0000"/>
                </a:solidFill>
                <a:latin typeface="Times New Roman"/>
                <a:ea typeface="ＭＳ Ｐ明朝"/>
              </a:rPr>
              <a:t>ＳＤ</a:t>
            </a:r>
            <a:r>
              <a:rPr b="1" lang="ja-JP" sz="2800" spc="-1" strike="noStrike">
                <a:solidFill>
                  <a:srgbClr val="cc0000"/>
                </a:solidFill>
                <a:latin typeface="Times New Roman"/>
              </a:rPr>
              <a:t>型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（構造化文書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289548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335268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19840" y="2895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59200" y="2895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7560" y="4287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5040" y="2895480"/>
            <a:ext cx="3200400" cy="3048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25920" y="289548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45040" y="335268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31360" y="2895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70720" y="2895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59080" y="4287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10080" y="373392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24480" y="3352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238880" y="3352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70920" y="3276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325920" y="32767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467480" y="32767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324480" y="3733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238880" y="3733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21240" y="4327560"/>
            <a:ext cx="103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44-44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239960" y="4740120"/>
            <a:ext cx="57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410080" y="42670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10080" y="47242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403320" y="42670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86400" y="42670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1568520"/>
            <a:ext cx="776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コンバータ ： 文書と入れ子型リレーション構造の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ja-JP" sz="2800" spc="-1" strike="noStrike">
                <a:solidFill>
                  <a:srgbClr val="800000"/>
                </a:solidFill>
                <a:latin typeface="Times New Roman"/>
              </a:rPr>
              <a:t>動的 ・ 双方向 ・ 部分的変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90720" y="3352680"/>
            <a:ext cx="7238880" cy="1600200"/>
            <a:chOff x="990720" y="3352680"/>
            <a:chExt cx="7238880" cy="1600200"/>
          </a:xfrm>
        </p:grpSpPr>
        <p:sp>
          <p:nvSpPr>
            <p:cNvPr id="379" name=""/>
            <p:cNvSpPr/>
            <p:nvPr/>
          </p:nvSpPr>
          <p:spPr>
            <a:xfrm>
              <a:off x="5410080" y="3809880"/>
              <a:ext cx="2819520" cy="381240"/>
            </a:xfrm>
            <a:prstGeom prst="roundRect">
              <a:avLst>
                <a:gd name="adj" fmla="val 36250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90720" y="3962520"/>
              <a:ext cx="2666880" cy="9903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57600" y="3857760"/>
              <a:ext cx="1752480" cy="485640"/>
            </a:xfrm>
            <a:prstGeom prst="leftRightArrow">
              <a:avLst>
                <a:gd name="adj1" fmla="val 50000"/>
                <a:gd name="adj2" fmla="val 71837"/>
              </a:avLst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029200" y="3352680"/>
              <a:ext cx="5335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62600" y="3376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800000"/>
                  </a:solidFill>
                  <a:latin typeface="Times New Roman"/>
                </a:rPr>
                <a:t>コンバー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7221240" y="3794040"/>
            <a:ext cx="103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55-55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311520" y="37814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10080" y="38098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t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85680" y="3352680"/>
            <a:ext cx="2670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ber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memb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ame&gt; katoh &lt;/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group&gt; KDE &lt;/grou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el&gt; 55-5555 &lt;/te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memb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member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29680" y="120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WebNR/SD</a:t>
            </a:r>
            <a:r>
              <a:rPr b="0" lang="ja-JP" sz="3600" spc="-1" strike="noStrike">
                <a:solidFill>
                  <a:srgbClr val="000066"/>
                </a:solidFill>
                <a:latin typeface="Times New Roman"/>
              </a:rPr>
              <a:t>における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Web</a:t>
            </a:r>
            <a:r>
              <a:rPr b="0" lang="ja-JP" sz="3600" spc="-1" strike="noStrike">
                <a:solidFill>
                  <a:srgbClr val="000066"/>
                </a:solidFill>
                <a:latin typeface="Times New Roman"/>
              </a:rPr>
              <a:t>データの操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99520" y="905040"/>
            <a:ext cx="70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Hlink</a:t>
            </a:r>
            <a:r>
              <a:rPr b="0" lang="ja-JP" sz="2800" spc="-1" strike="noStrike">
                <a:solidFill>
                  <a:srgbClr val="cc0000"/>
                </a:solidFill>
                <a:latin typeface="Times New Roman"/>
              </a:rPr>
              <a:t>型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のハイパーテキストリンク（ＵＲＬ）を格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95600" y="1438200"/>
            <a:ext cx="54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ハイパーテキストリンクを利用した演算子群を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800" spc="-1" strike="noStrike">
                <a:solidFill>
                  <a:srgbClr val="cc0000"/>
                </a:solidFill>
                <a:latin typeface="Times New Roman"/>
              </a:rPr>
              <a:t>Ｎａｖｉｇａｔｅ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ja-JP" sz="2800" spc="-1" strike="noStrike">
                <a:solidFill>
                  <a:srgbClr val="cc0000"/>
                </a:solidFill>
                <a:latin typeface="Times New Roman"/>
              </a:rPr>
              <a:t>Ｉｍｐｏｒｔ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ja-JP" sz="2800" spc="-1" strike="noStrike">
                <a:solidFill>
                  <a:srgbClr val="cc0000"/>
                </a:solidFill>
                <a:latin typeface="Times New Roman"/>
              </a:rPr>
              <a:t>Ｅｘｐｏｒ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280" y="2438280"/>
            <a:ext cx="4191120" cy="4172040"/>
          </a:xfrm>
          <a:custGeom>
            <a:avLst/>
            <a:gdLst/>
            <a:ahLst/>
            <a:rect l="l" t="t" r="r" b="b"/>
            <a:pathLst>
              <a:path w="1663" h="1380">
                <a:moveTo>
                  <a:pt x="930" y="0"/>
                </a:moveTo>
                <a:cubicBezTo>
                  <a:pt x="941" y="4"/>
                  <a:pt x="956" y="2"/>
                  <a:pt x="963" y="11"/>
                </a:cubicBezTo>
                <a:cubicBezTo>
                  <a:pt x="977" y="30"/>
                  <a:pt x="977" y="56"/>
                  <a:pt x="985" y="78"/>
                </a:cubicBezTo>
                <a:cubicBezTo>
                  <a:pt x="989" y="89"/>
                  <a:pt x="990" y="101"/>
                  <a:pt x="997" y="111"/>
                </a:cubicBezTo>
                <a:cubicBezTo>
                  <a:pt x="1021" y="147"/>
                  <a:pt x="1028" y="143"/>
                  <a:pt x="1063" y="155"/>
                </a:cubicBezTo>
                <a:cubicBezTo>
                  <a:pt x="1111" y="150"/>
                  <a:pt x="1170" y="146"/>
                  <a:pt x="1219" y="133"/>
                </a:cubicBezTo>
                <a:cubicBezTo>
                  <a:pt x="1242" y="127"/>
                  <a:pt x="1286" y="111"/>
                  <a:pt x="1286" y="111"/>
                </a:cubicBezTo>
                <a:cubicBezTo>
                  <a:pt x="1353" y="121"/>
                  <a:pt x="1383" y="112"/>
                  <a:pt x="1419" y="166"/>
                </a:cubicBezTo>
                <a:cubicBezTo>
                  <a:pt x="1415" y="188"/>
                  <a:pt x="1419" y="213"/>
                  <a:pt x="1408" y="233"/>
                </a:cubicBezTo>
                <a:cubicBezTo>
                  <a:pt x="1395" y="256"/>
                  <a:pt x="1352" y="289"/>
                  <a:pt x="1352" y="289"/>
                </a:cubicBezTo>
                <a:cubicBezTo>
                  <a:pt x="1348" y="300"/>
                  <a:pt x="1341" y="310"/>
                  <a:pt x="1341" y="322"/>
                </a:cubicBezTo>
                <a:cubicBezTo>
                  <a:pt x="1341" y="431"/>
                  <a:pt x="1404" y="433"/>
                  <a:pt x="1486" y="466"/>
                </a:cubicBezTo>
                <a:cubicBezTo>
                  <a:pt x="1508" y="475"/>
                  <a:pt x="1533" y="476"/>
                  <a:pt x="1552" y="489"/>
                </a:cubicBezTo>
                <a:cubicBezTo>
                  <a:pt x="1574" y="504"/>
                  <a:pt x="1619" y="533"/>
                  <a:pt x="1619" y="533"/>
                </a:cubicBezTo>
                <a:cubicBezTo>
                  <a:pt x="1648" y="620"/>
                  <a:pt x="1595" y="658"/>
                  <a:pt x="1519" y="677"/>
                </a:cubicBezTo>
                <a:cubicBezTo>
                  <a:pt x="1497" y="692"/>
                  <a:pt x="1474" y="707"/>
                  <a:pt x="1452" y="722"/>
                </a:cubicBezTo>
                <a:cubicBezTo>
                  <a:pt x="1432" y="735"/>
                  <a:pt x="1430" y="789"/>
                  <a:pt x="1430" y="789"/>
                </a:cubicBezTo>
                <a:cubicBezTo>
                  <a:pt x="1468" y="846"/>
                  <a:pt x="1522" y="879"/>
                  <a:pt x="1586" y="900"/>
                </a:cubicBezTo>
                <a:cubicBezTo>
                  <a:pt x="1629" y="929"/>
                  <a:pt x="1646" y="916"/>
                  <a:pt x="1663" y="966"/>
                </a:cubicBezTo>
                <a:cubicBezTo>
                  <a:pt x="1638" y="1118"/>
                  <a:pt x="1601" y="1067"/>
                  <a:pt x="1419" y="1077"/>
                </a:cubicBezTo>
                <a:cubicBezTo>
                  <a:pt x="1392" y="1161"/>
                  <a:pt x="1419" y="1062"/>
                  <a:pt x="1419" y="1233"/>
                </a:cubicBezTo>
                <a:cubicBezTo>
                  <a:pt x="1419" y="1259"/>
                  <a:pt x="1427" y="1292"/>
                  <a:pt x="1408" y="1311"/>
                </a:cubicBezTo>
                <a:cubicBezTo>
                  <a:pt x="1389" y="1330"/>
                  <a:pt x="1356" y="1318"/>
                  <a:pt x="1330" y="1322"/>
                </a:cubicBezTo>
                <a:cubicBezTo>
                  <a:pt x="1212" y="1311"/>
                  <a:pt x="1204" y="1338"/>
                  <a:pt x="1163" y="1255"/>
                </a:cubicBezTo>
                <a:cubicBezTo>
                  <a:pt x="1146" y="1220"/>
                  <a:pt x="1074" y="1177"/>
                  <a:pt x="1074" y="1177"/>
                </a:cubicBezTo>
                <a:cubicBezTo>
                  <a:pt x="1036" y="1185"/>
                  <a:pt x="1013" y="1184"/>
                  <a:pt x="985" y="1211"/>
                </a:cubicBezTo>
                <a:cubicBezTo>
                  <a:pt x="951" y="1245"/>
                  <a:pt x="948" y="1302"/>
                  <a:pt x="908" y="1333"/>
                </a:cubicBezTo>
                <a:cubicBezTo>
                  <a:pt x="895" y="1344"/>
                  <a:pt x="818" y="1370"/>
                  <a:pt x="797" y="1377"/>
                </a:cubicBezTo>
                <a:cubicBezTo>
                  <a:pt x="767" y="1372"/>
                  <a:pt x="713" y="1380"/>
                  <a:pt x="708" y="1333"/>
                </a:cubicBezTo>
                <a:cubicBezTo>
                  <a:pt x="706" y="1311"/>
                  <a:pt x="714" y="1288"/>
                  <a:pt x="719" y="1266"/>
                </a:cubicBezTo>
                <a:cubicBezTo>
                  <a:pt x="725" y="1243"/>
                  <a:pt x="741" y="1200"/>
                  <a:pt x="741" y="1200"/>
                </a:cubicBezTo>
                <a:cubicBezTo>
                  <a:pt x="694" y="1128"/>
                  <a:pt x="649" y="1158"/>
                  <a:pt x="563" y="1166"/>
                </a:cubicBezTo>
                <a:cubicBezTo>
                  <a:pt x="503" y="1186"/>
                  <a:pt x="468" y="1235"/>
                  <a:pt x="408" y="1255"/>
                </a:cubicBezTo>
                <a:cubicBezTo>
                  <a:pt x="363" y="1251"/>
                  <a:pt x="315" y="1262"/>
                  <a:pt x="274" y="1244"/>
                </a:cubicBezTo>
                <a:cubicBezTo>
                  <a:pt x="245" y="1231"/>
                  <a:pt x="229" y="1175"/>
                  <a:pt x="219" y="1144"/>
                </a:cubicBezTo>
                <a:cubicBezTo>
                  <a:pt x="234" y="977"/>
                  <a:pt x="228" y="1063"/>
                  <a:pt x="263" y="955"/>
                </a:cubicBezTo>
                <a:cubicBezTo>
                  <a:pt x="259" y="940"/>
                  <a:pt x="260" y="924"/>
                  <a:pt x="252" y="911"/>
                </a:cubicBezTo>
                <a:cubicBezTo>
                  <a:pt x="240" y="893"/>
                  <a:pt x="184" y="862"/>
                  <a:pt x="163" y="855"/>
                </a:cubicBezTo>
                <a:cubicBezTo>
                  <a:pt x="152" y="844"/>
                  <a:pt x="143" y="831"/>
                  <a:pt x="130" y="822"/>
                </a:cubicBezTo>
                <a:cubicBezTo>
                  <a:pt x="120" y="815"/>
                  <a:pt x="105" y="818"/>
                  <a:pt x="96" y="811"/>
                </a:cubicBezTo>
                <a:cubicBezTo>
                  <a:pt x="71" y="792"/>
                  <a:pt x="30" y="744"/>
                  <a:pt x="30" y="744"/>
                </a:cubicBezTo>
                <a:cubicBezTo>
                  <a:pt x="12" y="690"/>
                  <a:pt x="0" y="654"/>
                  <a:pt x="63" y="633"/>
                </a:cubicBezTo>
                <a:cubicBezTo>
                  <a:pt x="153" y="543"/>
                  <a:pt x="228" y="657"/>
                  <a:pt x="297" y="555"/>
                </a:cubicBezTo>
                <a:cubicBezTo>
                  <a:pt x="324" y="475"/>
                  <a:pt x="342" y="376"/>
                  <a:pt x="274" y="311"/>
                </a:cubicBezTo>
                <a:cubicBezTo>
                  <a:pt x="259" y="251"/>
                  <a:pt x="236" y="206"/>
                  <a:pt x="285" y="155"/>
                </a:cubicBezTo>
                <a:cubicBezTo>
                  <a:pt x="322" y="159"/>
                  <a:pt x="360" y="157"/>
                  <a:pt x="397" y="166"/>
                </a:cubicBezTo>
                <a:cubicBezTo>
                  <a:pt x="448" y="178"/>
                  <a:pt x="461" y="247"/>
                  <a:pt x="519" y="266"/>
                </a:cubicBezTo>
                <a:cubicBezTo>
                  <a:pt x="581" y="251"/>
                  <a:pt x="566" y="240"/>
                  <a:pt x="608" y="200"/>
                </a:cubicBezTo>
                <a:cubicBezTo>
                  <a:pt x="622" y="144"/>
                  <a:pt x="614" y="132"/>
                  <a:pt x="663" y="100"/>
                </a:cubicBezTo>
                <a:cubicBezTo>
                  <a:pt x="727" y="118"/>
                  <a:pt x="752" y="123"/>
                  <a:pt x="797" y="166"/>
                </a:cubicBezTo>
                <a:cubicBezTo>
                  <a:pt x="812" y="211"/>
                  <a:pt x="830" y="218"/>
                  <a:pt x="874" y="233"/>
                </a:cubicBezTo>
                <a:cubicBezTo>
                  <a:pt x="934" y="176"/>
                  <a:pt x="885" y="115"/>
                  <a:pt x="885" y="44"/>
                </a:cubicBezTo>
              </a:path>
            </a:pathLst>
          </a:custGeom>
          <a:gradFill rotWithShape="0">
            <a:gsLst>
              <a:gs pos="0">
                <a:srgbClr val="a8dbec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2819520"/>
            <a:ext cx="2971800" cy="3733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403848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553080" y="2819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77120" y="2819520"/>
            <a:ext cx="0" cy="3733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77120" y="342900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77120" y="487692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77120" y="57150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11480" y="3124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40680" y="2787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40320" y="33973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57200" y="3200400"/>
            <a:ext cx="3048120" cy="2819520"/>
            <a:chOff x="457200" y="3200400"/>
            <a:chExt cx="3048120" cy="2819520"/>
          </a:xfrm>
        </p:grpSpPr>
        <p:sp>
          <p:nvSpPr>
            <p:cNvPr id="403" name=""/>
            <p:cNvSpPr/>
            <p:nvPr/>
          </p:nvSpPr>
          <p:spPr>
            <a:xfrm>
              <a:off x="914400" y="4114800"/>
              <a:ext cx="685800" cy="762120"/>
            </a:xfrm>
            <a:prstGeom prst="foldedCorner">
              <a:avLst>
                <a:gd name="adj" fmla="val 21759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28800" y="3581280"/>
              <a:ext cx="685800" cy="762120"/>
            </a:xfrm>
            <a:prstGeom prst="foldedCorner">
              <a:avLst>
                <a:gd name="adj" fmla="val 21759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28800" y="4876920"/>
              <a:ext cx="685800" cy="761760"/>
            </a:xfrm>
            <a:prstGeom prst="foldedCorner">
              <a:avLst>
                <a:gd name="adj" fmla="val 21759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19520" y="3200400"/>
              <a:ext cx="685800" cy="762120"/>
            </a:xfrm>
            <a:prstGeom prst="foldedCorner">
              <a:avLst>
                <a:gd name="adj" fmla="val 21759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819520" y="4191120"/>
              <a:ext cx="685800" cy="761760"/>
            </a:xfrm>
            <a:prstGeom prst="foldedCorner">
              <a:avLst>
                <a:gd name="adj" fmla="val 21759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819520" y="5257800"/>
              <a:ext cx="685800" cy="762120"/>
            </a:xfrm>
            <a:prstGeom prst="foldedCorner">
              <a:avLst>
                <a:gd name="adj" fmla="val 21759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7200" y="4495680"/>
              <a:ext cx="457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1371600" y="3962520"/>
              <a:ext cx="45720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71600" y="4648320"/>
              <a:ext cx="45720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2286000" y="3429000"/>
              <a:ext cx="53352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86000" y="4038480"/>
              <a:ext cx="53352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62320" y="5181480"/>
              <a:ext cx="45720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457200" y="3200400"/>
            <a:ext cx="3048120" cy="2819520"/>
            <a:chOff x="457200" y="3200400"/>
            <a:chExt cx="3048120" cy="2819520"/>
          </a:xfrm>
        </p:grpSpPr>
        <p:sp>
          <p:nvSpPr>
            <p:cNvPr id="416" name=""/>
            <p:cNvSpPr/>
            <p:nvPr/>
          </p:nvSpPr>
          <p:spPr>
            <a:xfrm>
              <a:off x="2819520" y="3200400"/>
              <a:ext cx="685800" cy="762120"/>
            </a:xfrm>
            <a:prstGeom prst="foldedCorner">
              <a:avLst>
                <a:gd name="adj" fmla="val 21759"/>
              </a:avLst>
            </a:prstGeom>
            <a:solidFill>
              <a:srgbClr val="ff99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819520" y="4191120"/>
              <a:ext cx="685800" cy="761760"/>
            </a:xfrm>
            <a:prstGeom prst="foldedCorner">
              <a:avLst>
                <a:gd name="adj" fmla="val 21759"/>
              </a:avLst>
            </a:prstGeom>
            <a:solidFill>
              <a:srgbClr val="ff99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19520" y="5257800"/>
              <a:ext cx="685800" cy="762120"/>
            </a:xfrm>
            <a:prstGeom prst="foldedCorner">
              <a:avLst>
                <a:gd name="adj" fmla="val 21759"/>
              </a:avLst>
            </a:prstGeom>
            <a:solidFill>
              <a:srgbClr val="ff99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4495680"/>
              <a:ext cx="457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371600" y="3962520"/>
              <a:ext cx="45720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71600" y="4648320"/>
              <a:ext cx="45720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2286000" y="3429000"/>
              <a:ext cx="53352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86000" y="4038480"/>
              <a:ext cx="533520" cy="381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62320" y="5181480"/>
              <a:ext cx="45720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554400" y="2666880"/>
            <a:ext cx="190728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avig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06720" y="2743200"/>
            <a:ext cx="157824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m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05280" y="3200400"/>
            <a:ext cx="8229240" cy="3428280"/>
            <a:chOff x="305280" y="3200400"/>
            <a:chExt cx="8229240" cy="3428280"/>
          </a:xfrm>
        </p:grpSpPr>
        <p:sp>
          <p:nvSpPr>
            <p:cNvPr id="428" name=""/>
            <p:cNvSpPr/>
            <p:nvPr/>
          </p:nvSpPr>
          <p:spPr>
            <a:xfrm>
              <a:off x="2819520" y="3200400"/>
              <a:ext cx="685800" cy="762120"/>
            </a:xfrm>
            <a:prstGeom prst="foldedCorner">
              <a:avLst>
                <a:gd name="adj" fmla="val 21759"/>
              </a:avLst>
            </a:prstGeom>
            <a:solidFill>
              <a:srgbClr val="ff99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19520" y="4191120"/>
              <a:ext cx="685800" cy="761760"/>
            </a:xfrm>
            <a:prstGeom prst="foldedCorner">
              <a:avLst>
                <a:gd name="adj" fmla="val 21759"/>
              </a:avLst>
            </a:prstGeom>
            <a:solidFill>
              <a:srgbClr val="ff99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19520" y="5257800"/>
              <a:ext cx="685800" cy="762120"/>
            </a:xfrm>
            <a:prstGeom prst="foldedCorner">
              <a:avLst>
                <a:gd name="adj" fmla="val 21759"/>
              </a:avLst>
            </a:prstGeom>
            <a:solidFill>
              <a:srgbClr val="ff99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305280" y="3581280"/>
              <a:ext cx="8229240" cy="3047400"/>
              <a:chOff x="305280" y="3581280"/>
              <a:chExt cx="8229240" cy="3047400"/>
            </a:xfrm>
          </p:grpSpPr>
          <p:sp>
            <p:nvSpPr>
              <p:cNvPr id="432" name=""/>
              <p:cNvSpPr/>
              <p:nvPr/>
            </p:nvSpPr>
            <p:spPr>
              <a:xfrm>
                <a:off x="6553080" y="4114800"/>
                <a:ext cx="1981440" cy="685800"/>
              </a:xfrm>
              <a:prstGeom prst="roundRect">
                <a:avLst>
                  <a:gd name="adj" fmla="val 16667"/>
                </a:avLst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D</a:t>
                </a:r>
                <a:r>
                  <a:rPr b="1" lang="ja-JP" sz="3600" spc="-1" strike="noStrike">
                    <a:solidFill>
                      <a:srgbClr val="000000"/>
                    </a:solidFill>
                    <a:latin typeface="Times New Roman"/>
                  </a:rPr>
                  <a:t>値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553080" y="4952880"/>
                <a:ext cx="1981440" cy="685800"/>
              </a:xfrm>
              <a:prstGeom prst="roundRect">
                <a:avLst>
                  <a:gd name="adj" fmla="val 16667"/>
                </a:avLst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D</a:t>
                </a:r>
                <a:r>
                  <a:rPr b="1" lang="ja-JP" sz="3600" spc="-1" strike="noStrike">
                    <a:solidFill>
                      <a:srgbClr val="000000"/>
                    </a:solidFill>
                    <a:latin typeface="Times New Roman"/>
                  </a:rPr>
                  <a:t>値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553080" y="5791320"/>
                <a:ext cx="1981440" cy="685800"/>
              </a:xfrm>
              <a:prstGeom prst="roundRect">
                <a:avLst>
                  <a:gd name="adj" fmla="val 16667"/>
                </a:avLst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D</a:t>
                </a:r>
                <a:r>
                  <a:rPr b="1" lang="ja-JP" sz="3600" spc="-1" strike="noStrike">
                    <a:solidFill>
                      <a:srgbClr val="000000"/>
                    </a:solidFill>
                    <a:latin typeface="Times New Roman"/>
                  </a:rPr>
                  <a:t>値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5" name=""/>
              <p:cNvGrpSpPr/>
              <p:nvPr/>
            </p:nvGrpSpPr>
            <p:grpSpPr>
              <a:xfrm>
                <a:off x="305280" y="3581280"/>
                <a:ext cx="6422760" cy="1218600"/>
                <a:chOff x="305280" y="3581280"/>
                <a:chExt cx="6422760" cy="121860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305280" y="3581280"/>
                  <a:ext cx="64000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607440" y="4054320"/>
                  <a:ext cx="120600" cy="12060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305280" y="4419720"/>
                <a:ext cx="6422760" cy="1218600"/>
                <a:chOff x="305280" y="4419720"/>
                <a:chExt cx="6422760" cy="12186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305280" y="4419720"/>
                  <a:ext cx="64000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607440" y="4892760"/>
                  <a:ext cx="120600" cy="12060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305280" y="5410080"/>
                <a:ext cx="6422760" cy="1218600"/>
                <a:chOff x="305280" y="5410080"/>
                <a:chExt cx="6422760" cy="121860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305280" y="5410080"/>
                  <a:ext cx="64000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7440" y="5883120"/>
                  <a:ext cx="120600" cy="12060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4" name=""/>
          <p:cNvGrpSpPr/>
          <p:nvPr/>
        </p:nvGrpSpPr>
        <p:grpSpPr>
          <a:xfrm>
            <a:off x="5638680" y="2787480"/>
            <a:ext cx="2971800" cy="3765600"/>
            <a:chOff x="5638680" y="2787480"/>
            <a:chExt cx="2971800" cy="3765600"/>
          </a:xfrm>
        </p:grpSpPr>
        <p:sp>
          <p:nvSpPr>
            <p:cNvPr id="445" name=""/>
            <p:cNvSpPr/>
            <p:nvPr/>
          </p:nvSpPr>
          <p:spPr>
            <a:xfrm>
              <a:off x="5638680" y="2819520"/>
              <a:ext cx="2971800" cy="3733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638680" y="4038480"/>
              <a:ext cx="297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553080" y="2819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477120" y="2819520"/>
              <a:ext cx="0" cy="373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477120" y="342900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7120" y="48769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477120" y="571500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811480" y="312408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40320" y="278748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40680" y="33973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553080" y="4114800"/>
              <a:ext cx="1981440" cy="6858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D</a:t>
              </a:r>
              <a:r>
                <a:rPr b="1" lang="ja-JP" sz="3600" spc="-1" strike="noStrike">
                  <a:solidFill>
                    <a:srgbClr val="000000"/>
                  </a:solidFill>
                  <a:latin typeface="Times New Roman"/>
                </a:rPr>
                <a:t>値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53080" y="4952880"/>
              <a:ext cx="1981440" cy="6858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D</a:t>
              </a:r>
              <a:r>
                <a:rPr b="1" lang="ja-JP" sz="3600" spc="-1" strike="noStrike">
                  <a:solidFill>
                    <a:srgbClr val="000000"/>
                  </a:solidFill>
                  <a:latin typeface="Times New Roman"/>
                </a:rPr>
                <a:t>値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553080" y="5791320"/>
              <a:ext cx="1981440" cy="6858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D</a:t>
              </a:r>
              <a:r>
                <a:rPr b="1" lang="ja-JP" sz="3600" spc="-1" strike="noStrike">
                  <a:solidFill>
                    <a:srgbClr val="000000"/>
                  </a:solidFill>
                  <a:latin typeface="Times New Roman"/>
                </a:rPr>
                <a:t>値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152280" y="2438280"/>
            <a:ext cx="4191120" cy="4172040"/>
          </a:xfrm>
          <a:custGeom>
            <a:avLst/>
            <a:gdLst/>
            <a:ahLst/>
            <a:rect l="l" t="t" r="r" b="b"/>
            <a:pathLst>
              <a:path w="1663" h="1380">
                <a:moveTo>
                  <a:pt x="930" y="0"/>
                </a:moveTo>
                <a:cubicBezTo>
                  <a:pt x="941" y="4"/>
                  <a:pt x="956" y="2"/>
                  <a:pt x="963" y="11"/>
                </a:cubicBezTo>
                <a:cubicBezTo>
                  <a:pt x="977" y="30"/>
                  <a:pt x="977" y="56"/>
                  <a:pt x="985" y="78"/>
                </a:cubicBezTo>
                <a:cubicBezTo>
                  <a:pt x="989" y="89"/>
                  <a:pt x="990" y="101"/>
                  <a:pt x="997" y="111"/>
                </a:cubicBezTo>
                <a:cubicBezTo>
                  <a:pt x="1021" y="147"/>
                  <a:pt x="1028" y="143"/>
                  <a:pt x="1063" y="155"/>
                </a:cubicBezTo>
                <a:cubicBezTo>
                  <a:pt x="1111" y="150"/>
                  <a:pt x="1170" y="146"/>
                  <a:pt x="1219" y="133"/>
                </a:cubicBezTo>
                <a:cubicBezTo>
                  <a:pt x="1242" y="127"/>
                  <a:pt x="1286" y="111"/>
                  <a:pt x="1286" y="111"/>
                </a:cubicBezTo>
                <a:cubicBezTo>
                  <a:pt x="1353" y="121"/>
                  <a:pt x="1383" y="112"/>
                  <a:pt x="1419" y="166"/>
                </a:cubicBezTo>
                <a:cubicBezTo>
                  <a:pt x="1415" y="188"/>
                  <a:pt x="1419" y="213"/>
                  <a:pt x="1408" y="233"/>
                </a:cubicBezTo>
                <a:cubicBezTo>
                  <a:pt x="1395" y="256"/>
                  <a:pt x="1352" y="289"/>
                  <a:pt x="1352" y="289"/>
                </a:cubicBezTo>
                <a:cubicBezTo>
                  <a:pt x="1348" y="300"/>
                  <a:pt x="1341" y="310"/>
                  <a:pt x="1341" y="322"/>
                </a:cubicBezTo>
                <a:cubicBezTo>
                  <a:pt x="1341" y="431"/>
                  <a:pt x="1404" y="433"/>
                  <a:pt x="1486" y="466"/>
                </a:cubicBezTo>
                <a:cubicBezTo>
                  <a:pt x="1508" y="475"/>
                  <a:pt x="1533" y="476"/>
                  <a:pt x="1552" y="489"/>
                </a:cubicBezTo>
                <a:cubicBezTo>
                  <a:pt x="1574" y="504"/>
                  <a:pt x="1619" y="533"/>
                  <a:pt x="1619" y="533"/>
                </a:cubicBezTo>
                <a:cubicBezTo>
                  <a:pt x="1648" y="620"/>
                  <a:pt x="1595" y="658"/>
                  <a:pt x="1519" y="677"/>
                </a:cubicBezTo>
                <a:cubicBezTo>
                  <a:pt x="1497" y="692"/>
                  <a:pt x="1474" y="707"/>
                  <a:pt x="1452" y="722"/>
                </a:cubicBezTo>
                <a:cubicBezTo>
                  <a:pt x="1432" y="735"/>
                  <a:pt x="1430" y="789"/>
                  <a:pt x="1430" y="789"/>
                </a:cubicBezTo>
                <a:cubicBezTo>
                  <a:pt x="1468" y="846"/>
                  <a:pt x="1522" y="879"/>
                  <a:pt x="1586" y="900"/>
                </a:cubicBezTo>
                <a:cubicBezTo>
                  <a:pt x="1629" y="929"/>
                  <a:pt x="1646" y="916"/>
                  <a:pt x="1663" y="966"/>
                </a:cubicBezTo>
                <a:cubicBezTo>
                  <a:pt x="1638" y="1118"/>
                  <a:pt x="1601" y="1067"/>
                  <a:pt x="1419" y="1077"/>
                </a:cubicBezTo>
                <a:cubicBezTo>
                  <a:pt x="1392" y="1161"/>
                  <a:pt x="1419" y="1062"/>
                  <a:pt x="1419" y="1233"/>
                </a:cubicBezTo>
                <a:cubicBezTo>
                  <a:pt x="1419" y="1259"/>
                  <a:pt x="1427" y="1292"/>
                  <a:pt x="1408" y="1311"/>
                </a:cubicBezTo>
                <a:cubicBezTo>
                  <a:pt x="1389" y="1330"/>
                  <a:pt x="1356" y="1318"/>
                  <a:pt x="1330" y="1322"/>
                </a:cubicBezTo>
                <a:cubicBezTo>
                  <a:pt x="1212" y="1311"/>
                  <a:pt x="1204" y="1338"/>
                  <a:pt x="1163" y="1255"/>
                </a:cubicBezTo>
                <a:cubicBezTo>
                  <a:pt x="1146" y="1220"/>
                  <a:pt x="1074" y="1177"/>
                  <a:pt x="1074" y="1177"/>
                </a:cubicBezTo>
                <a:cubicBezTo>
                  <a:pt x="1036" y="1185"/>
                  <a:pt x="1013" y="1184"/>
                  <a:pt x="985" y="1211"/>
                </a:cubicBezTo>
                <a:cubicBezTo>
                  <a:pt x="951" y="1245"/>
                  <a:pt x="948" y="1302"/>
                  <a:pt x="908" y="1333"/>
                </a:cubicBezTo>
                <a:cubicBezTo>
                  <a:pt x="895" y="1344"/>
                  <a:pt x="818" y="1370"/>
                  <a:pt x="797" y="1377"/>
                </a:cubicBezTo>
                <a:cubicBezTo>
                  <a:pt x="767" y="1372"/>
                  <a:pt x="713" y="1380"/>
                  <a:pt x="708" y="1333"/>
                </a:cubicBezTo>
                <a:cubicBezTo>
                  <a:pt x="706" y="1311"/>
                  <a:pt x="714" y="1288"/>
                  <a:pt x="719" y="1266"/>
                </a:cubicBezTo>
                <a:cubicBezTo>
                  <a:pt x="725" y="1243"/>
                  <a:pt x="741" y="1200"/>
                  <a:pt x="741" y="1200"/>
                </a:cubicBezTo>
                <a:cubicBezTo>
                  <a:pt x="694" y="1128"/>
                  <a:pt x="649" y="1158"/>
                  <a:pt x="563" y="1166"/>
                </a:cubicBezTo>
                <a:cubicBezTo>
                  <a:pt x="503" y="1186"/>
                  <a:pt x="468" y="1235"/>
                  <a:pt x="408" y="1255"/>
                </a:cubicBezTo>
                <a:cubicBezTo>
                  <a:pt x="363" y="1251"/>
                  <a:pt x="315" y="1262"/>
                  <a:pt x="274" y="1244"/>
                </a:cubicBezTo>
                <a:cubicBezTo>
                  <a:pt x="245" y="1231"/>
                  <a:pt x="229" y="1175"/>
                  <a:pt x="219" y="1144"/>
                </a:cubicBezTo>
                <a:cubicBezTo>
                  <a:pt x="234" y="977"/>
                  <a:pt x="228" y="1063"/>
                  <a:pt x="263" y="955"/>
                </a:cubicBezTo>
                <a:cubicBezTo>
                  <a:pt x="259" y="940"/>
                  <a:pt x="260" y="924"/>
                  <a:pt x="252" y="911"/>
                </a:cubicBezTo>
                <a:cubicBezTo>
                  <a:pt x="240" y="893"/>
                  <a:pt x="184" y="862"/>
                  <a:pt x="163" y="855"/>
                </a:cubicBezTo>
                <a:cubicBezTo>
                  <a:pt x="152" y="844"/>
                  <a:pt x="143" y="831"/>
                  <a:pt x="130" y="822"/>
                </a:cubicBezTo>
                <a:cubicBezTo>
                  <a:pt x="120" y="815"/>
                  <a:pt x="105" y="818"/>
                  <a:pt x="96" y="811"/>
                </a:cubicBezTo>
                <a:cubicBezTo>
                  <a:pt x="71" y="792"/>
                  <a:pt x="30" y="744"/>
                  <a:pt x="30" y="744"/>
                </a:cubicBezTo>
                <a:cubicBezTo>
                  <a:pt x="12" y="690"/>
                  <a:pt x="0" y="654"/>
                  <a:pt x="63" y="633"/>
                </a:cubicBezTo>
                <a:cubicBezTo>
                  <a:pt x="153" y="543"/>
                  <a:pt x="228" y="657"/>
                  <a:pt x="297" y="555"/>
                </a:cubicBezTo>
                <a:cubicBezTo>
                  <a:pt x="324" y="475"/>
                  <a:pt x="342" y="376"/>
                  <a:pt x="274" y="311"/>
                </a:cubicBezTo>
                <a:cubicBezTo>
                  <a:pt x="259" y="251"/>
                  <a:pt x="236" y="206"/>
                  <a:pt x="285" y="155"/>
                </a:cubicBezTo>
                <a:cubicBezTo>
                  <a:pt x="322" y="159"/>
                  <a:pt x="360" y="157"/>
                  <a:pt x="397" y="166"/>
                </a:cubicBezTo>
                <a:cubicBezTo>
                  <a:pt x="448" y="178"/>
                  <a:pt x="461" y="247"/>
                  <a:pt x="519" y="266"/>
                </a:cubicBezTo>
                <a:cubicBezTo>
                  <a:pt x="581" y="251"/>
                  <a:pt x="566" y="240"/>
                  <a:pt x="608" y="200"/>
                </a:cubicBezTo>
                <a:cubicBezTo>
                  <a:pt x="622" y="144"/>
                  <a:pt x="614" y="132"/>
                  <a:pt x="663" y="100"/>
                </a:cubicBezTo>
                <a:cubicBezTo>
                  <a:pt x="727" y="118"/>
                  <a:pt x="752" y="123"/>
                  <a:pt x="797" y="166"/>
                </a:cubicBezTo>
                <a:cubicBezTo>
                  <a:pt x="812" y="211"/>
                  <a:pt x="830" y="218"/>
                  <a:pt x="874" y="233"/>
                </a:cubicBezTo>
                <a:cubicBezTo>
                  <a:pt x="934" y="176"/>
                  <a:pt x="885" y="115"/>
                  <a:pt x="885" y="44"/>
                </a:cubicBezTo>
              </a:path>
            </a:pathLst>
          </a:custGeom>
          <a:gradFill rotWithShape="0">
            <a:gsLst>
              <a:gs pos="0">
                <a:srgbClr val="a8dbec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080" y="579132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305280" y="3200400"/>
            <a:ext cx="6408000" cy="3429000"/>
            <a:chOff x="305280" y="3200400"/>
            <a:chExt cx="6408000" cy="3429000"/>
          </a:xfrm>
        </p:grpSpPr>
        <p:sp>
          <p:nvSpPr>
            <p:cNvPr id="461" name=""/>
            <p:cNvSpPr/>
            <p:nvPr/>
          </p:nvSpPr>
          <p:spPr>
            <a:xfrm>
              <a:off x="2819520" y="3200400"/>
              <a:ext cx="685800" cy="762120"/>
            </a:xfrm>
            <a:prstGeom prst="foldedCorner">
              <a:avLst>
                <a:gd name="adj" fmla="val 21759"/>
              </a:avLst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819520" y="4191120"/>
              <a:ext cx="685800" cy="761760"/>
            </a:xfrm>
            <a:prstGeom prst="foldedCorner">
              <a:avLst>
                <a:gd name="adj" fmla="val 21759"/>
              </a:avLst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19520" y="5257800"/>
              <a:ext cx="685800" cy="762120"/>
            </a:xfrm>
            <a:prstGeom prst="foldedCorner">
              <a:avLst>
                <a:gd name="adj" fmla="val 21759"/>
              </a:avLst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305280" y="3581280"/>
              <a:ext cx="6400080" cy="1219320"/>
              <a:chOff x="305280" y="3581280"/>
              <a:chExt cx="6400080" cy="1219320"/>
            </a:xfrm>
          </p:grpSpPr>
          <p:sp>
            <p:nvSpPr>
              <p:cNvPr id="465" name=""/>
              <p:cNvSpPr/>
              <p:nvPr/>
            </p:nvSpPr>
            <p:spPr>
              <a:xfrm>
                <a:off x="305280" y="3581280"/>
                <a:ext cx="6400080" cy="121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3481200" y="3581640"/>
                <a:ext cx="222120" cy="11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313200" y="4419360"/>
              <a:ext cx="6400080" cy="1218600"/>
              <a:chOff x="313200" y="4419360"/>
              <a:chExt cx="6400080" cy="1218600"/>
            </a:xfrm>
          </p:grpSpPr>
          <p:sp>
            <p:nvSpPr>
              <p:cNvPr id="468" name=""/>
              <p:cNvSpPr/>
              <p:nvPr/>
            </p:nvSpPr>
            <p:spPr>
              <a:xfrm>
                <a:off x="313200" y="4419360"/>
                <a:ext cx="640008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3489120" y="4420080"/>
                <a:ext cx="221760" cy="11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13200" y="5410080"/>
              <a:ext cx="6400080" cy="1219320"/>
              <a:chOff x="313200" y="5410080"/>
              <a:chExt cx="6400080" cy="1219320"/>
            </a:xfrm>
          </p:grpSpPr>
          <p:sp>
            <p:nvSpPr>
              <p:cNvPr id="471" name=""/>
              <p:cNvSpPr/>
              <p:nvPr/>
            </p:nvSpPr>
            <p:spPr>
              <a:xfrm>
                <a:off x="313200" y="5410080"/>
                <a:ext cx="6400080" cy="121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3489120" y="5410440"/>
                <a:ext cx="222120" cy="11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3906720" y="2743200"/>
            <a:ext cx="155232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962280" y="2940120"/>
            <a:ext cx="307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Web</a:t>
            </a:r>
            <a:r>
              <a:rPr b="0" lang="ja-JP" sz="3600" spc="-1" strike="noStrike">
                <a:solidFill>
                  <a:srgbClr val="000066"/>
                </a:solidFill>
                <a:latin typeface="Times New Roman"/>
              </a:rPr>
              <a:t>ラッパーの役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06880" y="3567240"/>
            <a:ext cx="66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cc"/>
              </a:buClr>
              <a:buSzPct val="5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viga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or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処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129680" y="120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WebNR/SD</a:t>
            </a:r>
            <a:r>
              <a:rPr b="0" lang="ja-JP" sz="3600" spc="-1" strike="noStrike">
                <a:solidFill>
                  <a:srgbClr val="000066"/>
                </a:solidFill>
                <a:latin typeface="Times New Roman"/>
              </a:rPr>
              <a:t>における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Web</a:t>
            </a:r>
            <a:r>
              <a:rPr b="0" lang="ja-JP" sz="3600" spc="-1" strike="noStrike">
                <a:solidFill>
                  <a:srgbClr val="000066"/>
                </a:solidFill>
                <a:latin typeface="Times New Roman"/>
              </a:rPr>
              <a:t>データの操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99520" y="905040"/>
            <a:ext cx="70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Hlink</a:t>
            </a:r>
            <a:r>
              <a:rPr b="0" lang="ja-JP" sz="2800" spc="-1" strike="noStrike">
                <a:solidFill>
                  <a:srgbClr val="cc0000"/>
                </a:solidFill>
                <a:latin typeface="Times New Roman"/>
              </a:rPr>
              <a:t>型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のハイパーテキストリンク（ＵＲＬ）を格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95600" y="1438200"/>
            <a:ext cx="54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ハイパーテキストリンクを利用した演算子群を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800" spc="-1" strike="noStrike">
                <a:solidFill>
                  <a:srgbClr val="cc0000"/>
                </a:solidFill>
                <a:latin typeface="Times New Roman"/>
              </a:rPr>
              <a:t>Ｎａｖｉｇａｔｅ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ja-JP" sz="2800" spc="-1" strike="noStrike">
                <a:solidFill>
                  <a:srgbClr val="cc0000"/>
                </a:solidFill>
                <a:latin typeface="Times New Roman"/>
              </a:rPr>
              <a:t>Ｉｍｐｏｒｔ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ja-JP" sz="2800" spc="-1" strike="noStrike">
                <a:solidFill>
                  <a:srgbClr val="cc0000"/>
                </a:solidFill>
                <a:latin typeface="Times New Roman"/>
              </a:rPr>
              <a:t>Ｅｘｐｏｒ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3T06:41:08Z</dcterms:created>
  <dc:creator>水口弘紀</dc:creator>
  <dc:description/>
  <dc:language>en-US</dc:language>
  <cp:lastModifiedBy>水口弘紀</cp:lastModifiedBy>
  <dcterms:modified xsi:type="dcterms:W3CDTF">1998-08-03T07:55:50Z</dcterms:modified>
  <cp:revision>25</cp:revision>
  <dc:subject/>
  <dc:title>異種情報源統合利用環境におけるWebラッパーの設計と開発</dc:title>
</cp:coreProperties>
</file>